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3016250" cy="4564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4D4-2089-49E2-8D8C-6CFAC4B8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1E4-DDD4-48F4-9F23-DE8A188E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450-4D57-4CD6-A5AD-FEEA88C0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EB6-8235-4DE0-8852-BB686E78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F0E-0AAC-4023-86F7-AA250F38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3D3-DBEE-453A-A32E-D5EAE4F7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398-1BA5-49BE-8287-ED0F93AD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5FD1-9050-4EF8-9C25-DBCBBBA0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5E8-F0B6-4932-8B0C-C5292B05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30B-4122-482C-8B7C-146610AF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4F6-A9D9-45B9-A760-CA5AD54F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B9B-C67D-4111-ACB8-6FF40794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2810-ACFB-4BA7-BCE3-A369C54AA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3440" y="260280"/>
            <a:ext cx="828036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С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троительная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механика</a:t>
            </a:r>
            <a:br>
              <a:rPr sz="4400"/>
            </a:b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Ч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асть</a:t>
            </a:r>
            <a:r>
              <a:rPr b="1" lang="en-US" sz="4400" spc="-1" strike="noStrike">
                <a:solidFill>
                  <a:srgbClr val="333399"/>
                </a:solidFill>
                <a:latin typeface="New_Zelek"/>
              </a:rPr>
              <a:t> </a:t>
            </a:r>
            <a:r>
              <a:rPr b="1" lang="en-US" sz="5400" spc="-1" strike="noStrike">
                <a:solidFill>
                  <a:srgbClr val="333399"/>
                </a:solidFill>
                <a:latin typeface="New_Zelek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637000"/>
            <a:ext cx="7921440" cy="41414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5400" spc="-1" strike="noStrike">
                <a:solidFill>
                  <a:srgbClr val="a50021"/>
                </a:solidFill>
                <a:latin typeface="Book Antiqua"/>
              </a:rPr>
              <a:t>ОСНОВЫ ТЕОРИИ РЕГУЛИР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Book Antiqua"/>
              </a:rPr>
              <a:t>НАПРЯЖЁННО-ДЕФОРМИРОВАН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Book Antiqua"/>
              </a:rPr>
              <a:t>СОСТОЯНИЯ</a:t>
            </a:r>
            <a:r>
              <a:rPr b="1" lang="en-US" sz="3200" spc="-1" strike="noStrike">
                <a:solidFill>
                  <a:srgbClr val="a50021"/>
                </a:solidFill>
                <a:latin typeface="Book Antiqua"/>
              </a:rPr>
              <a:t>  </a:t>
            </a:r>
            <a:r>
              <a:rPr b="1" lang="en-US" sz="3600" spc="-1" strike="noStrike">
                <a:solidFill>
                  <a:srgbClr val="a50021"/>
                </a:solidFill>
                <a:latin typeface="Book Antiqua"/>
              </a:rPr>
              <a:t>КОНСТРУК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17240" y="176040"/>
            <a:ext cx="40500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371520"/>
            <a:ext cx="2872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50920" y="264960"/>
            <a:ext cx="8642160" cy="605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Book Antiqua"/>
              </a:rPr>
              <a:t>Общая схема решения задач регулирования НДС конструкц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0960" y="1231920"/>
            <a:ext cx="8123400" cy="398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ребования корректности постановки задачи регулир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4000" y="173664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 критерий регулирования должен быть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физически корректным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4000" y="218124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 регуляторы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должн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оказывать влияни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регулируемые парамет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4000" y="260028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) регуляторы должны быть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независи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187280" y="4556160"/>
            <a:ext cx="6697800" cy="510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Ограничения на значения характеристик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P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</a:t>
            </a: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Times New Roman"/>
              </a:rPr>
              <a:t>V </a:t>
            </a:r>
            <a:r>
              <a:rPr b="0" lang="ru-RU" sz="1800" spc="-1" strike="noStrike">
                <a:solidFill>
                  <a:srgbClr val="333399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332000" y="5100480"/>
                <a:ext cx="1577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2987640" y="5216400"/>
            <a:ext cx="468000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исло независимых подсистем (груп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однородны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уравнений типа 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;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0800000">
            <a:off x="2454120" y="5734080"/>
            <a:ext cx="851040" cy="155520"/>
          </a:xfrm>
          <a:prstGeom prst="rightArrow">
            <a:avLst>
              <a:gd name="adj1" fmla="val 50000"/>
              <a:gd name="adj2" fmla="val 1368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01920" y="5673600"/>
            <a:ext cx="4680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специфически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регуляторов </a:t>
            </a: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в СН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96720" y="2968560"/>
            <a:ext cx="8352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ормальные признаки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езависимости регуляторов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спределения усилий от единичных регуляторов неподоб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и одно из них не может быть представлено как линейная комбинация других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реди столбцов матрицы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лияния регулятор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ет взаимно пропорциональ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0" dur="indefinite" restart="never" nodeType="tmRoot">
          <p:childTnLst>
            <p:seq>
              <p:cTn id="3041" dur="indefinite" nodeType="mainSeq">
                <p:childTnLst>
                  <p:par>
                    <p:cTn id="3042" fill="hold">
                      <p:stCondLst>
                        <p:cond delay="0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2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4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8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0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4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5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6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1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3" dur="1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7" dur="8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8" dur="8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9" dur="8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0" fill="hold">
                            <p:stCondLst>
                              <p:cond delay="3120"/>
                            </p:stCondLst>
                            <p:childTnLst>
                              <p:par>
                                <p:cTn id="30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3" dur="8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4" dur="8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5" dur="8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fill="hold">
                            <p:stCondLst>
                              <p:cond delay="5640"/>
                            </p:stCondLst>
                            <p:childTnLst>
                              <p:par>
                                <p:cTn id="30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9" dur="8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0" dur="8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1" dur="8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0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1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2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50920" y="264960"/>
            <a:ext cx="8642160" cy="605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Book Antiqua"/>
              </a:rPr>
              <a:t>Примеры  некорректной  постановки  задач  регулир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55640" y="1790640"/>
            <a:ext cx="2087640" cy="792360"/>
          </a:xfrm>
          <a:custGeom>
            <a:avLst/>
            <a:gdLst/>
            <a:ahLst/>
            <a:rect l="l" t="t" r="r" b="b"/>
            <a:pathLst>
              <a:path w="1315" h="635">
                <a:moveTo>
                  <a:pt x="0" y="0"/>
                </a:moveTo>
                <a:lnTo>
                  <a:pt x="1315" y="0"/>
                </a:lnTo>
                <a:lnTo>
                  <a:pt x="1315" y="635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692360" y="2620800"/>
            <a:ext cx="215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692360" y="26208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760400" y="25830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739960" y="2620800"/>
            <a:ext cx="21600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39960" y="26208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808360" y="25830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95320" y="179064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84360" y="1687680"/>
            <a:ext cx="75960" cy="21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55640" y="1679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38160" y="157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46240" y="157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363680" y="157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79680" y="157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95320" y="157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003400" y="157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203560" y="157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27120" y="157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643120" y="157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843280" y="157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5280" y="139536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55640" y="1574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5640" y="157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835280" y="171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324160" y="171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811600" y="171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755720" y="158256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147760" y="158256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627280" y="158256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41440" y="2771640"/>
            <a:ext cx="273528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ритерий регулировани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ыравнивание мо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 трёх сечени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620720" y="3375000"/>
            <a:ext cx="503280" cy="216000"/>
          </a:xfrm>
          <a:prstGeom prst="downArrow">
            <a:avLst>
              <a:gd name="adj1" fmla="val 40694"/>
              <a:gd name="adj2" fmla="val 50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3522600"/>
            <a:ext cx="273528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равнения регулир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–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–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–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819440" y="1222200"/>
            <a:ext cx="1009440" cy="314640"/>
          </a:xfrm>
          <a:custGeom>
            <a:avLst/>
            <a:gdLst/>
            <a:ahLst/>
            <a:rect l="l" t="t" r="r" b="b"/>
            <a:pathLst>
              <a:path w="609" h="198">
                <a:moveTo>
                  <a:pt x="1" y="198"/>
                </a:moveTo>
                <a:cubicBezTo>
                  <a:pt x="1" y="165"/>
                  <a:pt x="0" y="129"/>
                  <a:pt x="0" y="0"/>
                </a:cubicBezTo>
                <a:cubicBezTo>
                  <a:pt x="57" y="33"/>
                  <a:pt x="69" y="35"/>
                  <a:pt x="102" y="48"/>
                </a:cubicBezTo>
                <a:cubicBezTo>
                  <a:pt x="135" y="61"/>
                  <a:pt x="167" y="71"/>
                  <a:pt x="201" y="78"/>
                </a:cubicBezTo>
                <a:cubicBezTo>
                  <a:pt x="235" y="85"/>
                  <a:pt x="268" y="90"/>
                  <a:pt x="306" y="90"/>
                </a:cubicBezTo>
                <a:cubicBezTo>
                  <a:pt x="344" y="90"/>
                  <a:pt x="396" y="85"/>
                  <a:pt x="432" y="78"/>
                </a:cubicBezTo>
                <a:cubicBezTo>
                  <a:pt x="468" y="71"/>
                  <a:pt x="495" y="58"/>
                  <a:pt x="525" y="45"/>
                </a:cubicBezTo>
                <a:cubicBezTo>
                  <a:pt x="555" y="32"/>
                  <a:pt x="555" y="33"/>
                  <a:pt x="609" y="0"/>
                </a:cubicBezTo>
                <a:cubicBezTo>
                  <a:pt x="609" y="153"/>
                  <a:pt x="609" y="157"/>
                  <a:pt x="609" y="198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816200" y="1531800"/>
            <a:ext cx="1014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316240" y="13780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944800" y="1450800"/>
            <a:ext cx="474840" cy="2448000"/>
          </a:xfrm>
          <a:custGeom>
            <a:avLst/>
            <a:gdLst/>
            <a:ahLst/>
            <a:rect l="l" t="t" r="r" b="b"/>
            <a:pathLst>
              <a:path w="365" h="1588">
                <a:moveTo>
                  <a:pt x="0" y="0"/>
                </a:moveTo>
                <a:cubicBezTo>
                  <a:pt x="45" y="15"/>
                  <a:pt x="91" y="31"/>
                  <a:pt x="136" y="91"/>
                </a:cubicBezTo>
                <a:cubicBezTo>
                  <a:pt x="181" y="151"/>
                  <a:pt x="236" y="249"/>
                  <a:pt x="272" y="363"/>
                </a:cubicBezTo>
                <a:cubicBezTo>
                  <a:pt x="308" y="477"/>
                  <a:pt x="341" y="647"/>
                  <a:pt x="353" y="776"/>
                </a:cubicBezTo>
                <a:cubicBezTo>
                  <a:pt x="365" y="905"/>
                  <a:pt x="359" y="1038"/>
                  <a:pt x="347" y="1139"/>
                </a:cubicBezTo>
                <a:cubicBezTo>
                  <a:pt x="335" y="1240"/>
                  <a:pt x="313" y="1318"/>
                  <a:pt x="281" y="1385"/>
                </a:cubicBezTo>
                <a:cubicBezTo>
                  <a:pt x="249" y="1452"/>
                  <a:pt x="199" y="1510"/>
                  <a:pt x="152" y="1544"/>
                </a:cubicBezTo>
                <a:cubicBezTo>
                  <a:pt x="105" y="1578"/>
                  <a:pt x="32" y="1579"/>
                  <a:pt x="0" y="1588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31960" y="398772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 Black"/>
              </a:rPr>
              <a:t>Н е в о з м о ж н о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322280" y="109044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–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33640" y="1087560"/>
            <a:ext cx="64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–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757600" y="1090440"/>
            <a:ext cx="576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–3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09520" y="635040"/>
            <a:ext cx="32400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Book Antiqua"/>
              </a:rPr>
              <a:t>Физически некорректный критерий рег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014720" y="1574640"/>
            <a:ext cx="1800360" cy="568440"/>
          </a:xfrm>
          <a:custGeom>
            <a:avLst/>
            <a:gdLst/>
            <a:ahLst/>
            <a:rect l="l" t="t" r="r" b="b"/>
            <a:pathLst>
              <a:path w="1101" h="358">
                <a:moveTo>
                  <a:pt x="0" y="358"/>
                </a:moveTo>
                <a:cubicBezTo>
                  <a:pt x="25" y="327"/>
                  <a:pt x="95" y="225"/>
                  <a:pt x="156" y="172"/>
                </a:cubicBezTo>
                <a:cubicBezTo>
                  <a:pt x="217" y="119"/>
                  <a:pt x="291" y="68"/>
                  <a:pt x="366" y="40"/>
                </a:cubicBezTo>
                <a:cubicBezTo>
                  <a:pt x="441" y="12"/>
                  <a:pt x="533" y="0"/>
                  <a:pt x="606" y="4"/>
                </a:cubicBezTo>
                <a:cubicBezTo>
                  <a:pt x="679" y="8"/>
                  <a:pt x="741" y="31"/>
                  <a:pt x="804" y="64"/>
                </a:cubicBezTo>
                <a:cubicBezTo>
                  <a:pt x="867" y="97"/>
                  <a:pt x="935" y="154"/>
                  <a:pt x="984" y="202"/>
                </a:cubicBezTo>
                <a:cubicBezTo>
                  <a:pt x="1033" y="250"/>
                  <a:pt x="1077" y="322"/>
                  <a:pt x="1101" y="35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05280" y="2162160"/>
            <a:ext cx="216000" cy="7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05280" y="2162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73680" y="212400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724360" y="2162160"/>
            <a:ext cx="21600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724360" y="2162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92760" y="21240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905280" y="2435400"/>
            <a:ext cx="21600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05280" y="24354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973680" y="239724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005360" y="2190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183200" y="157788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475160" y="136512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788000" y="1341360"/>
            <a:ext cx="0" cy="244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445000" y="141120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254560" y="1384200"/>
            <a:ext cx="0" cy="244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083120" y="216216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92480" y="243540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221000" y="216684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92560" y="2070000"/>
            <a:ext cx="161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регулятор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1700280"/>
            <a:ext cx="7164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186080" y="1519200"/>
            <a:ext cx="36036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546360" y="3527280"/>
            <a:ext cx="273528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равнение регулир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–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433680" y="2770200"/>
            <a:ext cx="295272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ритерий регулировани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значение момента в сечении 1-1 должно быть равно заданному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53000" y="3355920"/>
            <a:ext cx="503280" cy="216000"/>
          </a:xfrm>
          <a:prstGeom prst="downArrow">
            <a:avLst>
              <a:gd name="adj1" fmla="val 40694"/>
              <a:gd name="adj2" fmla="val 507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11440" y="2505240"/>
            <a:ext cx="2826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–1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 регулируемый парамет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57640" y="635040"/>
            <a:ext cx="324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Book Antiqua"/>
              </a:rPr>
              <a:t>Выбранный рег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Book Antiqua"/>
              </a:rPr>
              <a:t>не оказывает влияния на регулируемый пара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527880" y="146520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73800" y="1676520"/>
            <a:ext cx="289080" cy="7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3800" y="16765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518160" y="1460520"/>
            <a:ext cx="716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446880" y="1460520"/>
            <a:ext cx="71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411960" y="1638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556320" y="1638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604360" y="1685880"/>
            <a:ext cx="215640" cy="7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604360" y="1685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713800" y="1469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653240" y="1469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618320" y="14842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80000" y="143208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678880" y="143208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548480" y="1684440"/>
            <a:ext cx="216000" cy="7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548480" y="1684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616880" y="16462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548480" y="1957320"/>
            <a:ext cx="216000" cy="71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548480" y="19573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616880" y="1919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648560" y="1712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351560" y="168444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361280" y="195732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413480" y="168912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607600" y="1898640"/>
            <a:ext cx="215640" cy="71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607600" y="1898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8675640" y="1860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713800" y="16542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416800" y="168768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26520" y="189864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478720" y="16876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678880" y="16477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058160" y="1593720"/>
            <a:ext cx="460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116920" y="1539720"/>
            <a:ext cx="46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16640" y="1908000"/>
            <a:ext cx="11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регулятор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308720" y="197640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8128080" y="18777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516720" y="3182760"/>
            <a:ext cx="2195640" cy="290520"/>
          </a:xfrm>
          <a:custGeom>
            <a:avLst/>
            <a:gdLst/>
            <a:ahLst/>
            <a:rect l="l" t="t" r="r" b="b"/>
            <a:pathLst>
              <a:path w="1383" h="183">
                <a:moveTo>
                  <a:pt x="0" y="183"/>
                </a:moveTo>
                <a:lnTo>
                  <a:pt x="1383" y="183"/>
                </a:lnTo>
                <a:lnTo>
                  <a:pt x="715" y="0"/>
                </a:lnTo>
                <a:lnTo>
                  <a:pt x="0" y="183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648560" y="31860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6516720" y="2467800"/>
            <a:ext cx="2195640" cy="282600"/>
          </a:xfrm>
          <a:custGeom>
            <a:avLst/>
            <a:gdLst/>
            <a:ahLst/>
            <a:rect l="l" t="t" r="r" b="b"/>
            <a:pathLst>
              <a:path w="1383" h="183">
                <a:moveTo>
                  <a:pt x="0" y="183"/>
                </a:moveTo>
                <a:lnTo>
                  <a:pt x="1383" y="183"/>
                </a:lnTo>
                <a:lnTo>
                  <a:pt x="715" y="0"/>
                </a:lnTo>
                <a:lnTo>
                  <a:pt x="0" y="183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648560" y="24638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6564240" y="2031840"/>
                <a:ext cx="647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6550200" y="2916360"/>
                <a:ext cx="64764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6432480" y="2033640"/>
            <a:ext cx="863640" cy="39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432480" y="2921040"/>
            <a:ext cx="863640" cy="39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7419960" y="2782800"/>
                <a:ext cx="13622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9" name=""/>
          <p:cNvSpPr/>
          <p:nvPr/>
        </p:nvSpPr>
        <p:spPr>
          <a:xfrm>
            <a:off x="6732720" y="644400"/>
            <a:ext cx="194292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Book Antiqua"/>
              </a:rPr>
              <a:t>Зависим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Book Antiqua"/>
              </a:rPr>
              <a:t>регуля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990033"/>
                </a:solidFill>
                <a:latin typeface="Times New Roman"/>
              </a:rPr>
              <a:t>V</a:t>
            </a:r>
            <a:r>
              <a:rPr b="1" i="1" lang="en-US" sz="1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 &gt; n</a:t>
            </a:r>
            <a:r>
              <a:rPr b="1" i="1" lang="en-US" sz="2000" spc="-1" strike="noStrike" baseline="-25000">
                <a:solidFill>
                  <a:srgbClr val="990033"/>
                </a:solidFill>
                <a:latin typeface="Times New Roman"/>
              </a:rPr>
              <a:t>st</a:t>
            </a:r>
            <a:r>
              <a:rPr b="1" i="1" lang="en-US" sz="1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1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334200" y="620640"/>
            <a:ext cx="0" cy="597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526080" y="4343400"/>
            <a:ext cx="21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372360" y="4554360"/>
            <a:ext cx="288720" cy="7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72360" y="45543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516720" y="4338720"/>
            <a:ext cx="712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6444720" y="4338720"/>
            <a:ext cx="7164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410160" y="45165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554880" y="45165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602560" y="4564080"/>
            <a:ext cx="216000" cy="71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602560" y="4564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8712360" y="4348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478560" y="43099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677440" y="430992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677440" y="452592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53080" y="4356000"/>
            <a:ext cx="2132280" cy="358920"/>
          </a:xfrm>
          <a:custGeom>
            <a:avLst/>
            <a:gdLst/>
            <a:ahLst/>
            <a:rect l="l" t="t" r="r" b="b"/>
            <a:pathLst>
              <a:path w="1343" h="226">
                <a:moveTo>
                  <a:pt x="0" y="4"/>
                </a:moveTo>
                <a:lnTo>
                  <a:pt x="420" y="226"/>
                </a:lnTo>
                <a:lnTo>
                  <a:pt x="972" y="226"/>
                </a:lnTo>
                <a:lnTo>
                  <a:pt x="134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236000" y="4346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8101080" y="4346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202520" y="4362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066160" y="43560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199280" y="46814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066160" y="4673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388280" y="4716360"/>
            <a:ext cx="288720" cy="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7658280" y="4716360"/>
            <a:ext cx="287280" cy="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380360" y="4668840"/>
            <a:ext cx="165564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ni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регулято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289640" y="4276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667640" y="4276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047080" y="4276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216920" y="413532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608960" y="413532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856640" y="413532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805440" y="5037120"/>
            <a:ext cx="17272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рав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гулир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–1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–2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–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3–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37320" y="3697200"/>
            <a:ext cx="1943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Book Antiqua"/>
              </a:rPr>
              <a:t>Недостаточ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Book Antiqua"/>
              </a:rPr>
              <a:t>регуля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81800" y="5925960"/>
            <a:ext cx="245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04000" y="6189840"/>
            <a:ext cx="187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2200" spc="-1" strike="noStrike" baseline="-25000">
                <a:solidFill>
                  <a:srgbClr val="990033"/>
                </a:solidFill>
                <a:latin typeface="Times New Roman"/>
              </a:rPr>
              <a:t>P</a:t>
            </a:r>
            <a:r>
              <a:rPr b="1" i="1" lang="en-US" sz="2200" spc="-1" strike="noStrike">
                <a:solidFill>
                  <a:srgbClr val="990033"/>
                </a:solidFill>
                <a:latin typeface="Times New Roman"/>
              </a:rPr>
              <a:t> &gt;</a:t>
            </a:r>
            <a:r>
              <a:rPr b="1" i="1" lang="en-US" sz="1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2200" spc="-1" strike="noStrike" baseline="-25000">
                <a:solidFill>
                  <a:srgbClr val="990033"/>
                </a:solidFill>
                <a:latin typeface="Times New Roman"/>
              </a:rPr>
              <a:t>V</a:t>
            </a:r>
            <a:r>
              <a:rPr b="1" i="1" lang="en-US" sz="1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990033"/>
                </a:solidFill>
                <a:latin typeface="Times New Roman"/>
              </a:rPr>
              <a:t>+</a:t>
            </a:r>
            <a:r>
              <a:rPr b="1" i="1" lang="en-US" sz="1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lang="en-US" sz="2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ru-RU" sz="22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990033"/>
                </a:solidFill>
                <a:latin typeface="Times New Roman"/>
              </a:rPr>
              <a:t>(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24000" y="4233960"/>
            <a:ext cx="5857560" cy="2420640"/>
          </a:xfrm>
          <a:prstGeom prst="rect">
            <a:avLst/>
          </a:prstGeom>
          <a:solidFill>
            <a:srgbClr val="dcfbb7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 Antiqua"/>
              </a:rPr>
              <a:t>Алгоритм решения линейных задач рег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24000" y="4470480"/>
            <a:ext cx="547200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Выбор критерия регулирования, регулируемых параметров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  регуля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Проверка корректности постановки задач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4000" y="5032440"/>
            <a:ext cx="5832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Расчёт заданной системы на воздействия  единичных регулятор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(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,…,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 формирование матрицы влияния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Расчёт на заданные воздействия, составление матрицы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24000" y="5605560"/>
            <a:ext cx="5857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числение матриц коэффициентов и свободных чле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равнений регулирования: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– C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33360" y="5972040"/>
            <a:ext cx="58579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88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числение искомых значений регуляторов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Определение значений регулируемых параметров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других характеристик НДС системы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5" dur="indefinite" restart="never" nodeType="tmRoot">
          <p:childTnLst>
            <p:seq>
              <p:cTn id="3126" dur="indefinite" nodeType="mainSeq">
                <p:childTnLst>
                  <p:par>
                    <p:cTn id="3127" fill="hold">
                      <p:stCondLst>
                        <p:cond delay="0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0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0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3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5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9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0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8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0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0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5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5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0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7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2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7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0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2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5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8" fill="hold">
                      <p:stCondLst>
                        <p:cond delay="indefinite"/>
                      </p:stCondLst>
                      <p:childTnLst>
                        <p:par>
                          <p:cTn id="3289" fill="hold">
                            <p:stCondLst>
                              <p:cond delay="0"/>
                            </p:stCondLst>
                            <p:childTnLst>
                              <p:par>
                                <p:cTn id="3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9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0" fill="hold">
                      <p:stCondLst>
                        <p:cond delay="indefinite"/>
                      </p:stCondLst>
                      <p:childTnLst>
                        <p:par>
                          <p:cTn id="3301" fill="hold">
                            <p:stCondLst>
                              <p:cond delay="0"/>
                            </p:stCondLst>
                            <p:childTnLst>
                              <p:par>
                                <p:cTn id="3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4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1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4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9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0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4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fill="hold">
                      <p:stCondLst>
                        <p:cond delay="indefinite"/>
                      </p:stCondLst>
                      <p:childTnLst>
                        <p:par>
                          <p:cTn id="3333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6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4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8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9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0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fill="hold">
                      <p:stCondLst>
                        <p:cond delay="indefinite"/>
                      </p:stCondLst>
                      <p:childTnLst>
                        <p:par>
                          <p:cTn id="3352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0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1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2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2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1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7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4" fill="hold">
                            <p:stCondLst>
                              <p:cond delay="500"/>
                            </p:stCondLst>
                            <p:childTnLst>
                              <p:par>
                                <p:cTn id="34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0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1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2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3" fill="hold">
                            <p:stCondLst>
                              <p:cond delay="3040"/>
                            </p:stCondLst>
                            <p:childTnLst>
                              <p:par>
                                <p:cTn id="34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fill="hold">
                            <p:stCondLst>
                              <p:cond delay="4040"/>
                            </p:stCondLst>
                            <p:childTnLst>
                              <p:par>
                                <p:cTn id="34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3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9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0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1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8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3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6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8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3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8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8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6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8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3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8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3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6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8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6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7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2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3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fill="hold">
                      <p:stCondLst>
                        <p:cond delay="indefinite"/>
                      </p:stCondLst>
                      <p:childTnLst>
                        <p:par>
                          <p:cTn id="3634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7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2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3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4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7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8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9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9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0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3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4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6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7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8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3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5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8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9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0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3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4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8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9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3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8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9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3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8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4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5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8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9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5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8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0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3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0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3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5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8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0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3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4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5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9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0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3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fill="hold">
                      <p:stCondLst>
                        <p:cond delay="indefinite"/>
                      </p:stCondLst>
                      <p:childTnLst>
                        <p:par>
                          <p:cTn id="3797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2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5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6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7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0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1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2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8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6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2" dur="8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3" dur="8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4" dur="8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9" dur="8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0" dur="8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1" dur="8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2" fill="hold">
                      <p:stCondLst>
                        <p:cond delay="indefinite"/>
                      </p:stCondLst>
                      <p:childTnLst>
                        <p:par>
                          <p:cTn id="3863" fill="hold">
                            <p:stCondLst>
                              <p:cond delay="0"/>
                            </p:stCondLst>
                            <p:childTnLst>
                              <p:par>
                                <p:cTn id="38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6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7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8" dur="8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9" fill="hold">
                            <p:stCondLst>
                              <p:cond delay="480"/>
                            </p:stCondLst>
                            <p:childTnLst>
                              <p:par>
                                <p:cTn id="38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2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3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4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fill="hold">
                      <p:stCondLst>
                        <p:cond delay="indefinite"/>
                      </p:stCondLst>
                      <p:childTnLst>
                        <p:par>
                          <p:cTn id="3876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3" dur="8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4" dur="8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5" dur="8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6" fill="hold">
                      <p:stCondLst>
                        <p:cond delay="indefinite"/>
                      </p:stCondLst>
                      <p:childTnLst>
                        <p:par>
                          <p:cTn id="3887" fill="hold">
                            <p:stCondLst>
                              <p:cond delay="0"/>
                            </p:stCondLst>
                            <p:childTnLst>
                              <p:par>
                                <p:cTn id="38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0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1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2" dur="8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7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8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9" dur="8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0" fill="hold">
                      <p:stCondLst>
                        <p:cond delay="indefinite"/>
                      </p:stCondLst>
                      <p:childTnLst>
                        <p:par>
                          <p:cTn id="3901" fill="hold">
                            <p:stCondLst>
                              <p:cond delay="0"/>
                            </p:stCondLst>
                            <p:childTnLst>
                              <p:par>
                                <p:cTn id="39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04" dur="8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5" dur="8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6" dur="8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1" dur="8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12" dur="8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3" dur="8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0920" y="264960"/>
            <a:ext cx="8642160" cy="361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Book Antiqua"/>
              </a:rPr>
              <a:t>Пример  решения  задачи  регулирования усилий в С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4360" y="1635120"/>
            <a:ext cx="7596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55640" y="1639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9572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1746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4018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62720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592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04156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24172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47500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690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2860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36480" y="123048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15336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55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89216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38140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85912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820880" y="155736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205000" y="156204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674800" y="156204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55640" y="175428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521160" y="15368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76092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835280" y="10684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916360" y="10684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95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89440" y="1979640"/>
            <a:ext cx="21600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889440" y="19796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98880" y="1763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63960" y="1725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963960" y="1941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730520" y="966960"/>
            <a:ext cx="21564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730520" y="10335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805040" y="9954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09800" y="966960"/>
            <a:ext cx="216000" cy="7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809800" y="1033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884320" y="9954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797120" y="16686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81440" y="166860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068480" y="1728720"/>
            <a:ext cx="479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08120" y="1243080"/>
            <a:ext cx="47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76240" y="1244520"/>
            <a:ext cx="47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916360" y="112716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2916360" y="131112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20960" y="103968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776240" y="1184400"/>
            <a:ext cx="28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017800" y="103500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979640" y="10018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973160" y="114624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55640" y="2219400"/>
            <a:ext cx="32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55640" y="183348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35280" y="183996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916360" y="183996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386080" y="1871640"/>
            <a:ext cx="0" cy="3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995640" y="2112840"/>
            <a:ext cx="0" cy="163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15880" y="1036800"/>
            <a:ext cx="1150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14440" y="17557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71680" y="103356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33520" y="10018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27040" y="17146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72396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180180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234648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2881440" y="217980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3957120" y="2179800"/>
            <a:ext cx="7164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071720" y="1962000"/>
            <a:ext cx="479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30984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7964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1136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6200000">
            <a:off x="303480" y="123156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059280" y="687240"/>
            <a:ext cx="1728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008160" y="871560"/>
            <a:ext cx="1729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5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75280" y="701640"/>
            <a:ext cx="4789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Т р е б у е т с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обеспечить выравн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абсолютных величин изгибающих мо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в концевых и среднем сечени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среднего пролёта б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309920" y="1641600"/>
            <a:ext cx="45277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за счёт начального укоро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(удлинения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левой подв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308480" y="2017800"/>
            <a:ext cx="4527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и  предварительного напряжения пра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992240" y="90972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887560" y="113364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33"/>
                </a:solidFill>
                <a:latin typeface="Times New Roman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90920" y="2274840"/>
            <a:ext cx="417528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Р е ш е н и е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Регулируемые параме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егуля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7159680" y="2265480"/>
                <a:ext cx="14428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5842080" y="2749680"/>
                <a:ext cx="1593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i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4406760" y="317484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Начальные условия регулирования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121360" y="3451320"/>
                <a:ext cx="2612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4" name=""/>
          <p:cNvSpPr/>
          <p:nvPr/>
        </p:nvSpPr>
        <p:spPr>
          <a:xfrm>
            <a:off x="7883640" y="3578400"/>
            <a:ext cx="792000" cy="280800"/>
          </a:xfrm>
          <a:prstGeom prst="rect">
            <a:avLst/>
          </a:prstGeom>
          <a:solidFill>
            <a:srgbClr val="c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427880" y="3035160"/>
            <a:ext cx="1460520" cy="270000"/>
          </a:xfrm>
          <a:prstGeom prst="rect">
            <a:avLst/>
          </a:prstGeom>
          <a:solidFill>
            <a:srgbClr val="c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6558120" y="3917880"/>
                <a:ext cx="1790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7" name=""/>
          <p:cNvSpPr/>
          <p:nvPr/>
        </p:nvSpPr>
        <p:spPr>
          <a:xfrm>
            <a:off x="4402080" y="4365720"/>
            <a:ext cx="46180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Проверка корректности постановки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ритерий  регулирования </a:t>
            </a:r>
            <a:r>
              <a:rPr b="1" i="1" lang="ru-RU" sz="1400" spc="-1" strike="noStrike">
                <a:solidFill>
                  <a:srgbClr val="333399"/>
                </a:solidFill>
                <a:latin typeface="Arial Narrow"/>
              </a:rPr>
              <a:t>физически корректен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егуляторы </a:t>
            </a:r>
            <a:r>
              <a:rPr b="1" i="1" lang="ru-RU" sz="1400" spc="-1" strike="noStrike">
                <a:solidFill>
                  <a:srgbClr val="333399"/>
                </a:solidFill>
                <a:latin typeface="Arial Narrow"/>
              </a:rPr>
              <a:t>могут изменять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регулируемые парамет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оличественная проверка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&lt;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+ 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ru-RU" sz="1400" spc="-1" strike="noStrike">
                <a:solidFill>
                  <a:srgbClr val="333399"/>
                </a:solidFill>
                <a:latin typeface="Arial Narrow"/>
              </a:rPr>
              <a:t>необходимые условия выполн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04840" y="2298600"/>
            <a:ext cx="424800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4. Расчёт на действие единичных регуляторов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82560" y="3186000"/>
            <a:ext cx="76320" cy="21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54200" y="31910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890720" y="3038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379600" y="30448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857680" y="3132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819440" y="290340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203560" y="290844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73360" y="299412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54200" y="330516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833480" y="2619360"/>
            <a:ext cx="0" cy="4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914560" y="2619360"/>
            <a:ext cx="0" cy="5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87640" y="3530520"/>
            <a:ext cx="21600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887640" y="3530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997440" y="3314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962520" y="3492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728720" y="2517840"/>
            <a:ext cx="21600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728720" y="2584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803240" y="25462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08360" y="2517840"/>
            <a:ext cx="216000" cy="7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808360" y="2584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882880" y="25462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795320" y="3035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919160" y="2590920"/>
            <a:ext cx="14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774800" y="273528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016000" y="258588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978200" y="255276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971720" y="2697120"/>
            <a:ext cx="85680" cy="79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978200" y="2489040"/>
            <a:ext cx="92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10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960720" y="32623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84360" y="4799160"/>
            <a:ext cx="75960" cy="215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55640" y="4797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892160" y="4780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387520" y="4730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59120" y="4716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820880" y="465768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211480" y="461340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674800" y="458640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55640" y="491184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835280" y="4226040"/>
            <a:ext cx="0" cy="61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916360" y="4226040"/>
            <a:ext cx="0" cy="20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89440" y="5137200"/>
            <a:ext cx="216000" cy="7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889440" y="5137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3998880" y="49212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963960" y="5099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730520" y="4124160"/>
            <a:ext cx="215640" cy="71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730520" y="41911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805040" y="4152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809800" y="4124160"/>
            <a:ext cx="216000" cy="7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809800" y="4191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884320" y="4152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797120" y="4781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916360" y="435600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2916360" y="456084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62520" y="48690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9160" y="3092400"/>
            <a:ext cx="3206880" cy="235080"/>
          </a:xfrm>
          <a:custGeom>
            <a:avLst/>
            <a:gdLst/>
            <a:ahLst/>
            <a:rect l="l" t="t" r="r" b="b"/>
            <a:pathLst>
              <a:path w="2020" h="148">
                <a:moveTo>
                  <a:pt x="0" y="129"/>
                </a:moveTo>
                <a:cubicBezTo>
                  <a:pt x="11" y="129"/>
                  <a:pt x="25" y="132"/>
                  <a:pt x="68" y="129"/>
                </a:cubicBezTo>
                <a:cubicBezTo>
                  <a:pt x="111" y="126"/>
                  <a:pt x="191" y="123"/>
                  <a:pt x="256" y="113"/>
                </a:cubicBezTo>
                <a:cubicBezTo>
                  <a:pt x="321" y="103"/>
                  <a:pt x="395" y="85"/>
                  <a:pt x="458" y="70"/>
                </a:cubicBezTo>
                <a:cubicBezTo>
                  <a:pt x="521" y="55"/>
                  <a:pt x="568" y="37"/>
                  <a:pt x="632" y="25"/>
                </a:cubicBezTo>
                <a:cubicBezTo>
                  <a:pt x="696" y="13"/>
                  <a:pt x="769" y="2"/>
                  <a:pt x="840" y="1"/>
                </a:cubicBezTo>
                <a:cubicBezTo>
                  <a:pt x="911" y="0"/>
                  <a:pt x="987" y="12"/>
                  <a:pt x="1056" y="21"/>
                </a:cubicBezTo>
                <a:cubicBezTo>
                  <a:pt x="1125" y="30"/>
                  <a:pt x="1179" y="42"/>
                  <a:pt x="1256" y="57"/>
                </a:cubicBezTo>
                <a:cubicBezTo>
                  <a:pt x="1333" y="72"/>
                  <a:pt x="1435" y="98"/>
                  <a:pt x="1520" y="113"/>
                </a:cubicBezTo>
                <a:cubicBezTo>
                  <a:pt x="1605" y="128"/>
                  <a:pt x="1685" y="142"/>
                  <a:pt x="1768" y="145"/>
                </a:cubicBezTo>
                <a:cubicBezTo>
                  <a:pt x="1851" y="148"/>
                  <a:pt x="1968" y="135"/>
                  <a:pt x="2020" y="13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81440" y="313704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2120" y="4782960"/>
            <a:ext cx="3200400" cy="138240"/>
          </a:xfrm>
          <a:custGeom>
            <a:avLst/>
            <a:gdLst/>
            <a:ahLst/>
            <a:rect l="l" t="t" r="r" b="b"/>
            <a:pathLst>
              <a:path w="2016" h="140">
                <a:moveTo>
                  <a:pt x="0" y="130"/>
                </a:moveTo>
                <a:cubicBezTo>
                  <a:pt x="11" y="130"/>
                  <a:pt x="25" y="129"/>
                  <a:pt x="64" y="130"/>
                </a:cubicBezTo>
                <a:cubicBezTo>
                  <a:pt x="103" y="131"/>
                  <a:pt x="168" y="140"/>
                  <a:pt x="236" y="138"/>
                </a:cubicBezTo>
                <a:cubicBezTo>
                  <a:pt x="304" y="136"/>
                  <a:pt x="405" y="126"/>
                  <a:pt x="472" y="118"/>
                </a:cubicBezTo>
                <a:cubicBezTo>
                  <a:pt x="539" y="110"/>
                  <a:pt x="581" y="101"/>
                  <a:pt x="640" y="90"/>
                </a:cubicBezTo>
                <a:cubicBezTo>
                  <a:pt x="699" y="79"/>
                  <a:pt x="763" y="65"/>
                  <a:pt x="824" y="54"/>
                </a:cubicBezTo>
                <a:cubicBezTo>
                  <a:pt x="885" y="43"/>
                  <a:pt x="949" y="30"/>
                  <a:pt x="1008" y="22"/>
                </a:cubicBezTo>
                <a:cubicBezTo>
                  <a:pt x="1067" y="14"/>
                  <a:pt x="1121" y="9"/>
                  <a:pt x="1180" y="6"/>
                </a:cubicBezTo>
                <a:cubicBezTo>
                  <a:pt x="1239" y="3"/>
                  <a:pt x="1302" y="0"/>
                  <a:pt x="1364" y="2"/>
                </a:cubicBezTo>
                <a:cubicBezTo>
                  <a:pt x="1426" y="4"/>
                  <a:pt x="1480" y="8"/>
                  <a:pt x="1552" y="18"/>
                </a:cubicBezTo>
                <a:cubicBezTo>
                  <a:pt x="1624" y="28"/>
                  <a:pt x="1719" y="45"/>
                  <a:pt x="1796" y="62"/>
                </a:cubicBezTo>
                <a:cubicBezTo>
                  <a:pt x="1873" y="79"/>
                  <a:pt x="1970" y="106"/>
                  <a:pt x="2016" y="11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855880" y="4425840"/>
            <a:ext cx="995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ru-RU" sz="16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10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к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971640" y="2700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39960" y="2679840"/>
            <a:ext cx="64764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971640" y="4376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939960" y="4356000"/>
            <a:ext cx="64764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55640" y="3537000"/>
            <a:ext cx="3240000" cy="404640"/>
          </a:xfrm>
          <a:custGeom>
            <a:avLst/>
            <a:gdLst/>
            <a:ahLst/>
            <a:rect l="l" t="t" r="r" b="b"/>
            <a:pathLst>
              <a:path w="2041" h="255">
                <a:moveTo>
                  <a:pt x="0" y="119"/>
                </a:moveTo>
                <a:lnTo>
                  <a:pt x="0" y="255"/>
                </a:lnTo>
                <a:lnTo>
                  <a:pt x="680" y="0"/>
                </a:lnTo>
                <a:lnTo>
                  <a:pt x="1368" y="176"/>
                </a:lnTo>
                <a:lnTo>
                  <a:pt x="2041" y="119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55640" y="373212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835280" y="35402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28960" y="3726000"/>
            <a:ext cx="0" cy="8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73160" y="3740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5,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549440" y="32623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7,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379600" y="3683160"/>
            <a:ext cx="0" cy="4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556000" y="3740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,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189160" y="339264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,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276720" y="3790800"/>
            <a:ext cx="82224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301920" y="3693960"/>
            <a:ext cx="1008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62120" y="5156280"/>
            <a:ext cx="3241440" cy="288720"/>
          </a:xfrm>
          <a:custGeom>
            <a:avLst/>
            <a:gdLst/>
            <a:ahLst/>
            <a:rect l="l" t="t" r="r" b="b"/>
            <a:pathLst>
              <a:path w="2042" h="182">
                <a:moveTo>
                  <a:pt x="1" y="108"/>
                </a:moveTo>
                <a:lnTo>
                  <a:pt x="0" y="80"/>
                </a:lnTo>
                <a:lnTo>
                  <a:pt x="681" y="182"/>
                </a:lnTo>
                <a:lnTo>
                  <a:pt x="1368" y="0"/>
                </a:lnTo>
                <a:lnTo>
                  <a:pt x="2042" y="108"/>
                </a:lnTo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757080" y="533232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35440" y="51516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835280" y="5326200"/>
            <a:ext cx="0" cy="11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3280" y="5013360"/>
            <a:ext cx="6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522440" y="53848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387520" y="5295960"/>
            <a:ext cx="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60760" y="4869000"/>
            <a:ext cx="6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979640" y="50115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284640" y="5353200"/>
            <a:ext cx="82224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308400" y="5262480"/>
            <a:ext cx="1008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8080" y="5578560"/>
            <a:ext cx="1873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тр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лия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гулятор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1509840" y="5635800"/>
                <a:ext cx="181440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7,87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24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,3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69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,1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379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>
            <a:off x="225360" y="6275520"/>
            <a:ext cx="4249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Эпюры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еподобны – регулят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i="1" lang="ru-RU" sz="1400" spc="-1" strike="noStrike">
                <a:solidFill>
                  <a:srgbClr val="333399"/>
                </a:solidFill>
                <a:latin typeface="Arial Narrow"/>
              </a:rPr>
              <a:t>независимые</a:t>
            </a:r>
            <a:r>
              <a:rPr b="1" i="1" lang="en-US" sz="14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4" dur="indefinite" restart="never" nodeType="tmRoot">
          <p:childTnLst>
            <p:seq>
              <p:cTn id="3915" dur="indefinite" nodeType="mainSeq">
                <p:childTnLst>
                  <p:par>
                    <p:cTn id="3916" fill="hold">
                      <p:stCondLst>
                        <p:cond delay="0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0" dur="8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1" dur="8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2" dur="8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7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0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3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6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9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2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5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8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1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7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0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3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6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9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2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5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8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1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0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3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6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9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2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5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8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1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4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7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0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3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6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9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2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5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8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4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0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3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6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9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2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5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8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4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7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0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3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6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9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2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5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8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1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4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5" fill="hold">
                      <p:stCondLst>
                        <p:cond delay="indefinite"/>
                      </p:stCondLst>
                      <p:childTnLst>
                        <p:par>
                          <p:cTn id="4106" fill="hold">
                            <p:stCondLst>
                              <p:cond delay="0"/>
                            </p:stCondLst>
                            <p:childTnLst>
                              <p:par>
                                <p:cTn id="4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9" dur="8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0" dur="8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1" dur="8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2" fill="hold">
                            <p:stCondLst>
                              <p:cond delay="4480"/>
                            </p:stCondLst>
                            <p:childTnLst>
                              <p:par>
                                <p:cTn id="4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5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6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7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0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5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6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7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8" fill="hold">
                            <p:stCondLst>
                              <p:cond delay="5480"/>
                            </p:stCondLst>
                            <p:childTnLst>
                              <p:par>
                                <p:cTn id="4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3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8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1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2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3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4" fill="hold">
                      <p:stCondLst>
                        <p:cond delay="indefinite"/>
                      </p:stCondLst>
                      <p:childTnLst>
                        <p:par>
                          <p:cTn id="4145" fill="hold">
                            <p:stCondLst>
                              <p:cond delay="0"/>
                            </p:stCondLst>
                            <p:childTnLst>
                              <p:par>
                                <p:cTn id="4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8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9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0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6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9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2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5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6" fill="hold">
                            <p:stCondLst>
                              <p:cond delay="2120"/>
                            </p:stCondLst>
                            <p:childTnLst>
                              <p:par>
                                <p:cTn id="4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9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0" fill="hold">
                      <p:stCondLst>
                        <p:cond delay="indefinite"/>
                      </p:stCondLst>
                      <p:childTnLst>
                        <p:par>
                          <p:cTn id="4171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4" dur="8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5" dur="8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6" dur="8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9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0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1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4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5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6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7" fill="hold">
                            <p:stCondLst>
                              <p:cond delay="1400"/>
                            </p:stCondLst>
                            <p:childTnLst>
                              <p:par>
                                <p:cTn id="4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0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1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2" dur="1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7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98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9" dur="8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2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4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7" dur="3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8" dur="3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9" dur="3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3" dur="3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4" dur="3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5" dur="3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6" fill="hold">
                      <p:stCondLst>
                        <p:cond delay="indefinite"/>
                      </p:stCondLst>
                      <p:childTnLst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0" dur="8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1" dur="8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2" dur="8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320"/>
                            </p:stCondLst>
                            <p:childTnLst>
                              <p:par>
                                <p:cTn id="4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6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8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9" fill="hold">
                            <p:stCondLst>
                              <p:cond delay="2320"/>
                            </p:stCondLst>
                            <p:childTnLst>
                              <p:par>
                                <p:cTn id="4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2" dur="3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3" dur="3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4" dur="3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5" fill="hold">
                            <p:stCondLst>
                              <p:cond delay="5320"/>
                            </p:stCondLst>
                            <p:childTnLst>
                              <p:par>
                                <p:cTn id="4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8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9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0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1" fill="hold">
                      <p:stCondLst>
                        <p:cond delay="indefinite"/>
                      </p:stCondLst>
                      <p:childTnLst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5" dur="8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6" dur="8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7" dur="8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8" fill="hold">
                      <p:stCondLst>
                        <p:cond delay="indefinite"/>
                      </p:stCondLst>
                      <p:childTnLst>
                        <p:par>
                          <p:cTn id="4249" fill="hold">
                            <p:stCondLst>
                              <p:cond delay="0"/>
                            </p:stCondLst>
                            <p:childTnLst>
                              <p:par>
                                <p:cTn id="4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2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3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4" dur="80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5" fill="hold">
                      <p:stCondLst>
                        <p:cond delay="indefinite"/>
                      </p:stCondLst>
                      <p:childTnLst>
                        <p:par>
                          <p:cTn id="4256" fill="hold">
                            <p:stCondLst>
                              <p:cond delay="0"/>
                            </p:stCondLst>
                            <p:childTnLst>
                              <p:par>
                                <p:cTn id="4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9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0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1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4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5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6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9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0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1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4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5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9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0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1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4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5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6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9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0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1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4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5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9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0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1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4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6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4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5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6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9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1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4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5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6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9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0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1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9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4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5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9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0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1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4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9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0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1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4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5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9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4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9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0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1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4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5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6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9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1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5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6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0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5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6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9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0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1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5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6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0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1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2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5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6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7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0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1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5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7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0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1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2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5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6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7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2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5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6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7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0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1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2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6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7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1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3" fill="hold">
                      <p:stCondLst>
                        <p:cond delay="indefinite"/>
                      </p:stCondLst>
                      <p:childTnLst>
                        <p:par>
                          <p:cTn id="4484" fill="hold">
                            <p:stCondLst>
                              <p:cond delay="0"/>
                            </p:stCondLst>
                            <p:childTnLst>
                              <p:par>
                                <p:cTn id="4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7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8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9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2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3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4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7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8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9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2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3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4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7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8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9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2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3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4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7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8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9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2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3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4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7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9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2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3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4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7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8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9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2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3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4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7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8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9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2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3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4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7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9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2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9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2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3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4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7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9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2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4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2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4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7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9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2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3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4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7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8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9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2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4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2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3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4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8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9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2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3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4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8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9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4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8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9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3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4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8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9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2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3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4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8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9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2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3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4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5" fill="hold">
                      <p:stCondLst>
                        <p:cond delay="indefinite"/>
                      </p:stCondLst>
                      <p:childTnLst>
                        <p:par>
                          <p:cTn id="4686" fill="hold">
                            <p:stCondLst>
                              <p:cond delay="0"/>
                            </p:stCondLst>
                            <p:childTnLst>
                              <p:par>
                                <p:cTn id="4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9" dur="8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0" dur="8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1" dur="8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2" fill="hold">
                            <p:stCondLst>
                              <p:cond delay="1080"/>
                            </p:stCondLst>
                            <p:childTnLst>
                              <p:par>
                                <p:cTn id="46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5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6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8" fill="hold">
                      <p:stCondLst>
                        <p:cond delay="indefinite"/>
                      </p:stCondLst>
                      <p:childTnLst>
                        <p:par>
                          <p:cTn id="4699" fill="hold">
                            <p:stCondLst>
                              <p:cond delay="0"/>
                            </p:stCondLst>
                            <p:childTnLst>
                              <p:par>
                                <p:cTn id="4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2" dur="8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3" dur="8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4" dur="8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50920" y="264960"/>
            <a:ext cx="8642160" cy="361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Book Antiqua"/>
              </a:rPr>
              <a:t>Пример  решения  задачи  регулирования усилий в С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4360" y="1635120"/>
            <a:ext cx="7596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55640" y="1639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9572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1746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4018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62720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0592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04156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24172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47500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690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2860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36480" y="123048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55640" y="15336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55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89216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38140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85912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820880" y="155736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205000" y="156204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674800" y="156204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55640" y="175428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521160" y="15368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76092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835280" y="10684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916360" y="10684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995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89440" y="1979640"/>
            <a:ext cx="21600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889440" y="19796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998880" y="1763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963960" y="1725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963960" y="1941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730520" y="966960"/>
            <a:ext cx="21564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30520" y="10335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805040" y="9954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809800" y="966960"/>
            <a:ext cx="216000" cy="7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809800" y="1033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884320" y="9954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97120" y="16686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881440" y="166860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068480" y="1728720"/>
            <a:ext cx="479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508120" y="1243080"/>
            <a:ext cx="47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776240" y="1244520"/>
            <a:ext cx="47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916360" y="112716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2916360" y="131112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20960" y="103968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776240" y="1184400"/>
            <a:ext cx="28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017800" y="103500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979640" y="10018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973160" y="114624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219400"/>
            <a:ext cx="32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5640" y="183348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835280" y="183996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16360" y="183996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386080" y="1871640"/>
            <a:ext cx="0" cy="3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995640" y="2112840"/>
            <a:ext cx="0" cy="163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15880" y="1036800"/>
            <a:ext cx="1150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14440" y="17557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71680" y="103356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33520" y="10018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27040" y="17146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72396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180180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234648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2881440" y="217980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957120" y="2179800"/>
            <a:ext cx="7164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071720" y="1962000"/>
            <a:ext cx="479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30984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97964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51136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rot="16200000">
            <a:off x="303480" y="123156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059280" y="687240"/>
            <a:ext cx="1728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008160" y="871560"/>
            <a:ext cx="1729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5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175280" y="701640"/>
            <a:ext cx="4789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Т р е б у е т с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обеспечить выравн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абсолютных величин изгибающих мо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в концевых и среднем сечени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среднего пролёта б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309920" y="1641600"/>
            <a:ext cx="45277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за счёт начального укоро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(удлинения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левой подв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308480" y="2017800"/>
            <a:ext cx="4527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и  предварительного напряжения пра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92240" y="90972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887560" y="113364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33"/>
                </a:solidFill>
                <a:latin typeface="Times New Roman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390920" y="2274840"/>
            <a:ext cx="417528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Р е ш е н и е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Регулируемые параме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егуля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406760" y="317484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Начальные условия регулирования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402080" y="4365720"/>
            <a:ext cx="4618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Проверка корректности постановки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4840" y="2298600"/>
            <a:ext cx="424800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4. Расчёт на действие единичных регуляторов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2560" y="3186000"/>
            <a:ext cx="76320" cy="21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54200" y="31910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890720" y="3038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379600" y="30448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857680" y="3132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819440" y="290340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203560" y="290844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673360" y="299412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754200" y="330516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833480" y="2619360"/>
            <a:ext cx="0" cy="4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14560" y="2619360"/>
            <a:ext cx="0" cy="5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887640" y="3530520"/>
            <a:ext cx="21600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87640" y="3530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97440" y="3314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3492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728720" y="2517840"/>
            <a:ext cx="21600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728720" y="2584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03240" y="25462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808360" y="2517840"/>
            <a:ext cx="216000" cy="7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08360" y="2584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882880" y="25462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795320" y="3035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919160" y="2590920"/>
            <a:ext cx="14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774800" y="273528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016000" y="258588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78200" y="255276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71720" y="2697120"/>
            <a:ext cx="85680" cy="79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978200" y="2489040"/>
            <a:ext cx="92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10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299120" y="5611680"/>
            <a:ext cx="75960" cy="21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370400" y="56102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5720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78944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0166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24196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67368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65632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85612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08976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3054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90084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359240" y="519120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370400" y="550404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3704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506920" y="5649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996160" y="5649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473880" y="5649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429160" y="5492880"/>
            <a:ext cx="21600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819760" y="552600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283440" y="551988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370400" y="572436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135920" y="5506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7375680" y="5510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450040" y="50706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531120" y="51246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6104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504200" y="5950080"/>
            <a:ext cx="215640" cy="7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504200" y="59500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613640" y="5734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578720" y="56959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78720" y="59119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345280" y="5043600"/>
            <a:ext cx="215640" cy="7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345280" y="51102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419800" y="5072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424560" y="5043600"/>
            <a:ext cx="216000" cy="71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424560" y="5110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6499080" y="5072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411880" y="5699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496200" y="577692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960720" y="32623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84360" y="4799160"/>
            <a:ext cx="75960" cy="215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55640" y="4797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892160" y="4780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387520" y="4730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859120" y="4716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820880" y="465768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211480" y="461340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4800" y="458640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55640" y="491184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35280" y="4226040"/>
            <a:ext cx="0" cy="61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916360" y="4226040"/>
            <a:ext cx="0" cy="20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889440" y="5137200"/>
            <a:ext cx="216000" cy="71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889440" y="5137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98880" y="49212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63960" y="5099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730520" y="4124160"/>
            <a:ext cx="215640" cy="7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730520" y="41911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805040" y="4152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809800" y="4124160"/>
            <a:ext cx="216000" cy="716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809800" y="4191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884320" y="4152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797120" y="4781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916360" y="435600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2916360" y="456084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48690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49160" y="3092400"/>
            <a:ext cx="3206880" cy="235080"/>
          </a:xfrm>
          <a:custGeom>
            <a:avLst/>
            <a:gdLst/>
            <a:ahLst/>
            <a:rect l="l" t="t" r="r" b="b"/>
            <a:pathLst>
              <a:path w="2020" h="148">
                <a:moveTo>
                  <a:pt x="0" y="129"/>
                </a:moveTo>
                <a:cubicBezTo>
                  <a:pt x="11" y="129"/>
                  <a:pt x="25" y="132"/>
                  <a:pt x="68" y="129"/>
                </a:cubicBezTo>
                <a:cubicBezTo>
                  <a:pt x="111" y="126"/>
                  <a:pt x="191" y="123"/>
                  <a:pt x="256" y="113"/>
                </a:cubicBezTo>
                <a:cubicBezTo>
                  <a:pt x="321" y="103"/>
                  <a:pt x="395" y="85"/>
                  <a:pt x="458" y="70"/>
                </a:cubicBezTo>
                <a:cubicBezTo>
                  <a:pt x="521" y="55"/>
                  <a:pt x="568" y="37"/>
                  <a:pt x="632" y="25"/>
                </a:cubicBezTo>
                <a:cubicBezTo>
                  <a:pt x="696" y="13"/>
                  <a:pt x="769" y="2"/>
                  <a:pt x="840" y="1"/>
                </a:cubicBezTo>
                <a:cubicBezTo>
                  <a:pt x="911" y="0"/>
                  <a:pt x="987" y="12"/>
                  <a:pt x="1056" y="21"/>
                </a:cubicBezTo>
                <a:cubicBezTo>
                  <a:pt x="1125" y="30"/>
                  <a:pt x="1179" y="42"/>
                  <a:pt x="1256" y="57"/>
                </a:cubicBezTo>
                <a:cubicBezTo>
                  <a:pt x="1333" y="72"/>
                  <a:pt x="1435" y="98"/>
                  <a:pt x="1520" y="113"/>
                </a:cubicBezTo>
                <a:cubicBezTo>
                  <a:pt x="1605" y="128"/>
                  <a:pt x="1685" y="142"/>
                  <a:pt x="1768" y="145"/>
                </a:cubicBezTo>
                <a:cubicBezTo>
                  <a:pt x="1851" y="148"/>
                  <a:pt x="1968" y="135"/>
                  <a:pt x="2020" y="13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1440" y="313704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62120" y="4782960"/>
            <a:ext cx="3200400" cy="138240"/>
          </a:xfrm>
          <a:custGeom>
            <a:avLst/>
            <a:gdLst/>
            <a:ahLst/>
            <a:rect l="l" t="t" r="r" b="b"/>
            <a:pathLst>
              <a:path w="2016" h="140">
                <a:moveTo>
                  <a:pt x="0" y="130"/>
                </a:moveTo>
                <a:cubicBezTo>
                  <a:pt x="11" y="130"/>
                  <a:pt x="25" y="129"/>
                  <a:pt x="64" y="130"/>
                </a:cubicBezTo>
                <a:cubicBezTo>
                  <a:pt x="103" y="131"/>
                  <a:pt x="168" y="140"/>
                  <a:pt x="236" y="138"/>
                </a:cubicBezTo>
                <a:cubicBezTo>
                  <a:pt x="304" y="136"/>
                  <a:pt x="405" y="126"/>
                  <a:pt x="472" y="118"/>
                </a:cubicBezTo>
                <a:cubicBezTo>
                  <a:pt x="539" y="110"/>
                  <a:pt x="581" y="101"/>
                  <a:pt x="640" y="90"/>
                </a:cubicBezTo>
                <a:cubicBezTo>
                  <a:pt x="699" y="79"/>
                  <a:pt x="763" y="65"/>
                  <a:pt x="824" y="54"/>
                </a:cubicBezTo>
                <a:cubicBezTo>
                  <a:pt x="885" y="43"/>
                  <a:pt x="949" y="30"/>
                  <a:pt x="1008" y="22"/>
                </a:cubicBezTo>
                <a:cubicBezTo>
                  <a:pt x="1067" y="14"/>
                  <a:pt x="1121" y="9"/>
                  <a:pt x="1180" y="6"/>
                </a:cubicBezTo>
                <a:cubicBezTo>
                  <a:pt x="1239" y="3"/>
                  <a:pt x="1302" y="0"/>
                  <a:pt x="1364" y="2"/>
                </a:cubicBezTo>
                <a:cubicBezTo>
                  <a:pt x="1426" y="4"/>
                  <a:pt x="1480" y="8"/>
                  <a:pt x="1552" y="18"/>
                </a:cubicBezTo>
                <a:cubicBezTo>
                  <a:pt x="1624" y="28"/>
                  <a:pt x="1719" y="45"/>
                  <a:pt x="1796" y="62"/>
                </a:cubicBezTo>
                <a:cubicBezTo>
                  <a:pt x="1873" y="79"/>
                  <a:pt x="1970" y="106"/>
                  <a:pt x="2016" y="11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855880" y="4425840"/>
            <a:ext cx="995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ru-RU" sz="16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10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к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971640" y="2700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939960" y="2679840"/>
            <a:ext cx="64764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4376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939960" y="4356000"/>
            <a:ext cx="64764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755640" y="3537000"/>
            <a:ext cx="3240000" cy="404640"/>
          </a:xfrm>
          <a:custGeom>
            <a:avLst/>
            <a:gdLst/>
            <a:ahLst/>
            <a:rect l="l" t="t" r="r" b="b"/>
            <a:pathLst>
              <a:path w="2041" h="255">
                <a:moveTo>
                  <a:pt x="0" y="119"/>
                </a:moveTo>
                <a:lnTo>
                  <a:pt x="0" y="255"/>
                </a:lnTo>
                <a:lnTo>
                  <a:pt x="680" y="0"/>
                </a:lnTo>
                <a:lnTo>
                  <a:pt x="1368" y="176"/>
                </a:lnTo>
                <a:lnTo>
                  <a:pt x="2041" y="119"/>
                </a:ln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55640" y="373212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835280" y="35402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928960" y="3726000"/>
            <a:ext cx="0" cy="8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73160" y="3740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5,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549440" y="32623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7,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379600" y="3683160"/>
            <a:ext cx="0" cy="4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556000" y="3740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,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189160" y="339264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,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276720" y="3790800"/>
            <a:ext cx="82224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301920" y="3693960"/>
            <a:ext cx="1008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762120" y="5156280"/>
            <a:ext cx="3241440" cy="288720"/>
          </a:xfrm>
          <a:custGeom>
            <a:avLst/>
            <a:gdLst/>
            <a:ahLst/>
            <a:rect l="l" t="t" r="r" b="b"/>
            <a:pathLst>
              <a:path w="2042" h="182">
                <a:moveTo>
                  <a:pt x="1" y="108"/>
                </a:moveTo>
                <a:lnTo>
                  <a:pt x="0" y="80"/>
                </a:lnTo>
                <a:lnTo>
                  <a:pt x="681" y="182"/>
                </a:lnTo>
                <a:lnTo>
                  <a:pt x="1368" y="0"/>
                </a:lnTo>
                <a:lnTo>
                  <a:pt x="2042" y="108"/>
                </a:lnTo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757080" y="533232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935440" y="51516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835280" y="5326200"/>
            <a:ext cx="0" cy="11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03280" y="5013360"/>
            <a:ext cx="6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522440" y="53848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387520" y="5295960"/>
            <a:ext cx="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660760" y="4869000"/>
            <a:ext cx="6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979640" y="50115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284640" y="5353200"/>
            <a:ext cx="82224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308400" y="5262480"/>
            <a:ext cx="1008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08080" y="5578560"/>
            <a:ext cx="1873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тр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лия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гулятор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09840" y="5635800"/>
                <a:ext cx="181440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7,87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24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,3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69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,1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379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225360" y="6275520"/>
            <a:ext cx="4249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Эпюры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еподобны – регулят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i="1" lang="ru-RU" sz="1400" spc="-1" strike="noStrike">
                <a:solidFill>
                  <a:srgbClr val="333399"/>
                </a:solidFill>
                <a:latin typeface="Arial Narrow"/>
              </a:rPr>
              <a:t>независимые</a:t>
            </a:r>
            <a:r>
              <a:rPr b="1" i="1" lang="en-US" sz="14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430880" y="4533840"/>
            <a:ext cx="45338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</a:rPr>
              <a:t>В ы в о д: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задача регулирования 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</a:rPr>
              <a:t>поставлена</a:t>
            </a:r>
            <a:r>
              <a:rPr b="1" i="1" lang="en-US" sz="14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 Narrow"/>
              </a:rPr>
              <a:t>корректно.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67160" y="5716440"/>
            <a:ext cx="3219480" cy="212760"/>
          </a:xfrm>
          <a:custGeom>
            <a:avLst/>
            <a:gdLst/>
            <a:ahLst/>
            <a:rect l="l" t="t" r="r" b="b"/>
            <a:pathLst>
              <a:path w="2028" h="134">
                <a:moveTo>
                  <a:pt x="0" y="3"/>
                </a:moveTo>
                <a:cubicBezTo>
                  <a:pt x="11" y="3"/>
                  <a:pt x="37" y="0"/>
                  <a:pt x="70" y="5"/>
                </a:cubicBezTo>
                <a:cubicBezTo>
                  <a:pt x="103" y="10"/>
                  <a:pt x="152" y="27"/>
                  <a:pt x="200" y="35"/>
                </a:cubicBezTo>
                <a:cubicBezTo>
                  <a:pt x="248" y="43"/>
                  <a:pt x="309" y="52"/>
                  <a:pt x="360" y="55"/>
                </a:cubicBezTo>
                <a:cubicBezTo>
                  <a:pt x="411" y="58"/>
                  <a:pt x="457" y="53"/>
                  <a:pt x="504" y="51"/>
                </a:cubicBezTo>
                <a:cubicBezTo>
                  <a:pt x="551" y="49"/>
                  <a:pt x="593" y="42"/>
                  <a:pt x="640" y="43"/>
                </a:cubicBezTo>
                <a:cubicBezTo>
                  <a:pt x="687" y="44"/>
                  <a:pt x="739" y="50"/>
                  <a:pt x="784" y="59"/>
                </a:cubicBezTo>
                <a:cubicBezTo>
                  <a:pt x="829" y="68"/>
                  <a:pt x="870" y="88"/>
                  <a:pt x="908" y="99"/>
                </a:cubicBezTo>
                <a:cubicBezTo>
                  <a:pt x="946" y="110"/>
                  <a:pt x="973" y="122"/>
                  <a:pt x="1012" y="127"/>
                </a:cubicBezTo>
                <a:cubicBezTo>
                  <a:pt x="1051" y="132"/>
                  <a:pt x="1103" y="134"/>
                  <a:pt x="1144" y="131"/>
                </a:cubicBezTo>
                <a:cubicBezTo>
                  <a:pt x="1185" y="128"/>
                  <a:pt x="1223" y="113"/>
                  <a:pt x="1260" y="107"/>
                </a:cubicBezTo>
                <a:cubicBezTo>
                  <a:pt x="1297" y="101"/>
                  <a:pt x="1324" y="97"/>
                  <a:pt x="1364" y="95"/>
                </a:cubicBezTo>
                <a:cubicBezTo>
                  <a:pt x="1404" y="93"/>
                  <a:pt x="1447" y="92"/>
                  <a:pt x="1500" y="95"/>
                </a:cubicBezTo>
                <a:cubicBezTo>
                  <a:pt x="1553" y="98"/>
                  <a:pt x="1621" y="115"/>
                  <a:pt x="1680" y="115"/>
                </a:cubicBezTo>
                <a:cubicBezTo>
                  <a:pt x="1739" y="115"/>
                  <a:pt x="1798" y="109"/>
                  <a:pt x="1856" y="94"/>
                </a:cubicBezTo>
                <a:cubicBezTo>
                  <a:pt x="1914" y="79"/>
                  <a:pt x="1992" y="41"/>
                  <a:pt x="2028" y="2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389480" y="4788000"/>
            <a:ext cx="40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Расчёт системы на заданную нагрузку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813280" y="5094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761080" y="5103720"/>
            <a:ext cx="463680" cy="35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373640" y="5896080"/>
            <a:ext cx="3238560" cy="503280"/>
          </a:xfrm>
          <a:custGeom>
            <a:avLst/>
            <a:gdLst/>
            <a:ahLst/>
            <a:rect l="l" t="t" r="r" b="b"/>
            <a:pathLst>
              <a:path w="2040" h="317">
                <a:moveTo>
                  <a:pt x="0" y="214"/>
                </a:moveTo>
                <a:cubicBezTo>
                  <a:pt x="0" y="178"/>
                  <a:pt x="0" y="118"/>
                  <a:pt x="0" y="0"/>
                </a:cubicBezTo>
                <a:cubicBezTo>
                  <a:pt x="44" y="59"/>
                  <a:pt x="68" y="78"/>
                  <a:pt x="104" y="109"/>
                </a:cubicBezTo>
                <a:cubicBezTo>
                  <a:pt x="140" y="139"/>
                  <a:pt x="172" y="162"/>
                  <a:pt x="216" y="183"/>
                </a:cubicBezTo>
                <a:cubicBezTo>
                  <a:pt x="260" y="204"/>
                  <a:pt x="314" y="227"/>
                  <a:pt x="368" y="236"/>
                </a:cubicBezTo>
                <a:cubicBezTo>
                  <a:pt x="422" y="244"/>
                  <a:pt x="487" y="243"/>
                  <a:pt x="540" y="233"/>
                </a:cubicBezTo>
                <a:cubicBezTo>
                  <a:pt x="593" y="222"/>
                  <a:pt x="640" y="195"/>
                  <a:pt x="688" y="171"/>
                </a:cubicBezTo>
                <a:cubicBezTo>
                  <a:pt x="736" y="198"/>
                  <a:pt x="750" y="207"/>
                  <a:pt x="788" y="226"/>
                </a:cubicBezTo>
                <a:cubicBezTo>
                  <a:pt x="825" y="246"/>
                  <a:pt x="868" y="272"/>
                  <a:pt x="908" y="285"/>
                </a:cubicBezTo>
                <a:cubicBezTo>
                  <a:pt x="948" y="298"/>
                  <a:pt x="986" y="306"/>
                  <a:pt x="1028" y="307"/>
                </a:cubicBezTo>
                <a:cubicBezTo>
                  <a:pt x="1070" y="308"/>
                  <a:pt x="1117" y="303"/>
                  <a:pt x="1160" y="288"/>
                </a:cubicBezTo>
                <a:cubicBezTo>
                  <a:pt x="1203" y="274"/>
                  <a:pt x="1249" y="243"/>
                  <a:pt x="1284" y="220"/>
                </a:cubicBezTo>
                <a:cubicBezTo>
                  <a:pt x="1319" y="198"/>
                  <a:pt x="1324" y="189"/>
                  <a:pt x="1368" y="155"/>
                </a:cubicBezTo>
                <a:cubicBezTo>
                  <a:pt x="1412" y="192"/>
                  <a:pt x="1445" y="215"/>
                  <a:pt x="1484" y="239"/>
                </a:cubicBezTo>
                <a:cubicBezTo>
                  <a:pt x="1523" y="262"/>
                  <a:pt x="1559" y="281"/>
                  <a:pt x="1604" y="295"/>
                </a:cubicBezTo>
                <a:cubicBezTo>
                  <a:pt x="1649" y="308"/>
                  <a:pt x="1703" y="317"/>
                  <a:pt x="1752" y="316"/>
                </a:cubicBezTo>
                <a:cubicBezTo>
                  <a:pt x="1801" y="315"/>
                  <a:pt x="1852" y="309"/>
                  <a:pt x="1900" y="291"/>
                </a:cubicBezTo>
                <a:cubicBezTo>
                  <a:pt x="1948" y="273"/>
                  <a:pt x="2011" y="225"/>
                  <a:pt x="2040" y="208"/>
                </a:cubicBez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371840" y="622944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008760" y="6230880"/>
            <a:ext cx="0" cy="1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543720" y="6146640"/>
            <a:ext cx="0" cy="8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464080" y="6165720"/>
            <a:ext cx="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46640" y="5734080"/>
            <a:ext cx="8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4,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076720" y="588024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2,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159600" y="5857920"/>
            <a:ext cx="6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2,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735600" y="632952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3,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061040" y="6230880"/>
            <a:ext cx="0" cy="1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692680" y="631512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2,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581360" y="6222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,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540560" y="6199200"/>
            <a:ext cx="1224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527960" y="6226200"/>
            <a:ext cx="463680" cy="365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872480" y="5065560"/>
            <a:ext cx="1077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тр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илий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груз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7742160" y="5540400"/>
                <a:ext cx="1139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,90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2,31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,48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842080" y="2749680"/>
                <a:ext cx="1593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i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7159680" y="2265480"/>
                <a:ext cx="14428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121360" y="3451320"/>
                <a:ext cx="2612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⇒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1" name=""/>
          <p:cNvSpPr/>
          <p:nvPr/>
        </p:nvSpPr>
        <p:spPr>
          <a:xfrm>
            <a:off x="7883640" y="3578400"/>
            <a:ext cx="792000" cy="280800"/>
          </a:xfrm>
          <a:prstGeom prst="rect">
            <a:avLst/>
          </a:prstGeom>
          <a:solidFill>
            <a:srgbClr val="c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427880" y="3035160"/>
            <a:ext cx="1460520" cy="270000"/>
          </a:xfrm>
          <a:prstGeom prst="rect">
            <a:avLst/>
          </a:prstGeom>
          <a:solidFill>
            <a:srgbClr val="c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6558120" y="3917880"/>
                <a:ext cx="1790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5" dur="indefinite" restart="never" nodeType="tmRoot">
          <p:childTnLst>
            <p:seq>
              <p:cTn id="4706" dur="indefinite" nodeType="mainSeq">
                <p:childTnLst>
                  <p:par>
                    <p:cTn id="4707" fill="hold">
                      <p:stCondLst>
                        <p:cond delay="0"/>
                      </p:stCondLst>
                      <p:childTnLst>
                        <p:par>
                          <p:cTn id="4708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1" dur="80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2" dur="80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3" dur="80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4" fill="hold">
                      <p:stCondLst>
                        <p:cond delay="indefinite"/>
                      </p:stCondLst>
                      <p:childTnLst>
                        <p:par>
                          <p:cTn id="4715" fill="hold">
                            <p:stCondLst>
                              <p:cond delay="0"/>
                            </p:stCondLst>
                            <p:childTnLst>
                              <p:par>
                                <p:cTn id="4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8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3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9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2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5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1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4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6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9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5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8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1" dur="80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2" dur="80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3" dur="80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6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9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0" fill="hold">
                      <p:stCondLst>
                        <p:cond delay="indefinite"/>
                      </p:stCondLst>
                      <p:childTnLst>
                        <p:par>
                          <p:cTn id="4851" fill="hold">
                            <p:stCondLst>
                              <p:cond delay="0"/>
                            </p:stCondLst>
                            <p:childTnLst>
                              <p:par>
                                <p:cTn id="48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4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5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6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9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0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1" dur="1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4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5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6" dur="1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9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0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1" dur="1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4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5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6" dur="1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9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0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1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4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5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6" dur="1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9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0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1" dur="1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4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5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6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9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0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1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4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5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6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9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0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1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4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5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6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9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0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1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2" fill="hold">
                      <p:stCondLst>
                        <p:cond delay="indefinite"/>
                      </p:stCondLst>
                      <p:childTnLst>
                        <p:par>
                          <p:cTn id="4923" fill="hold">
                            <p:stCondLst>
                              <p:cond delay="0"/>
                            </p:stCondLst>
                            <p:childTnLst>
                              <p:par>
                                <p:cTn id="49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6" dur="80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7" dur="80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8" dur="80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1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2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3" dur="1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50920" y="264960"/>
            <a:ext cx="8642160" cy="361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Book Antiqua"/>
              </a:rPr>
              <a:t>Пример  решения  задачи  регулирования усилий в С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84360" y="1635120"/>
            <a:ext cx="7596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55640" y="1639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9572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1746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4018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162720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0592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04156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4172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47500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690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2860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36480" y="123048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55640" y="15336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55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89216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38140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85912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820880" y="155736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205000" y="156204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674800" y="156204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55640" y="175428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521160" y="15368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76092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835280" y="10684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916360" y="10684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995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889440" y="1979640"/>
            <a:ext cx="21600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889440" y="19796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998880" y="1763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963960" y="1725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963960" y="1941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730520" y="966960"/>
            <a:ext cx="21564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730520" y="10335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805040" y="9954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809800" y="966960"/>
            <a:ext cx="216000" cy="7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809800" y="1033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884320" y="9954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797120" y="16686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881440" y="166860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68480" y="1728720"/>
            <a:ext cx="479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508120" y="1243080"/>
            <a:ext cx="47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776240" y="1244520"/>
            <a:ext cx="47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916360" y="112716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2916360" y="131112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920960" y="103968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76240" y="1184400"/>
            <a:ext cx="28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017800" y="103500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979640" y="10018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973160" y="114624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55640" y="2219400"/>
            <a:ext cx="32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55640" y="183348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835280" y="183996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916360" y="183996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386080" y="1871640"/>
            <a:ext cx="0" cy="3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995640" y="2112840"/>
            <a:ext cx="0" cy="163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15880" y="1036800"/>
            <a:ext cx="1150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14440" y="17557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71680" y="103356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33520" y="10018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27040" y="17146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>
            <a:off x="72396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180180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234648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2881440" y="217980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3957120" y="2179800"/>
            <a:ext cx="7164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071720" y="1962000"/>
            <a:ext cx="479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30984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97964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51136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 rot="16200000">
            <a:off x="303480" y="123156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059280" y="687240"/>
            <a:ext cx="1728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008160" y="871560"/>
            <a:ext cx="1729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5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175280" y="701640"/>
            <a:ext cx="4789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Т р е б у е т с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обеспечить выравн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абсолютных величин изгибающих мо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в концевых и среднем сечени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среднего пролёта б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309920" y="1641600"/>
            <a:ext cx="45277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за счёт начального укоро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(удлинения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левой подв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308480" y="2017800"/>
            <a:ext cx="4527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и  предварительного напряжения пра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992240" y="90972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887560" y="113364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33"/>
                </a:solidFill>
                <a:latin typeface="Times New Roman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390920" y="2274840"/>
            <a:ext cx="417528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Р е ш е н и е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Регулируемые параме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егуля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406760" y="3174840"/>
            <a:ext cx="4268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Уравнения регулировани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 + B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04840" y="2298600"/>
            <a:ext cx="424800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4. Расчёт на действие единичных регуляторов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82560" y="3186000"/>
            <a:ext cx="76320" cy="21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54200" y="31910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890720" y="3038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379600" y="30448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857680" y="3132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819440" y="290340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203560" y="290844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673360" y="299412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54200" y="330516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833480" y="2619360"/>
            <a:ext cx="0" cy="4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914560" y="2619360"/>
            <a:ext cx="0" cy="5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887640" y="3530520"/>
            <a:ext cx="21600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887640" y="3530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997440" y="3314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962520" y="3492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728720" y="2517840"/>
            <a:ext cx="21600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728720" y="2584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803240" y="25462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808360" y="2517840"/>
            <a:ext cx="216000" cy="7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808360" y="2584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882880" y="25462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795320" y="3035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19160" y="2590920"/>
            <a:ext cx="14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774800" y="273528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016000" y="258588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978200" y="255276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1971720" y="2697120"/>
            <a:ext cx="85680" cy="79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978200" y="2489040"/>
            <a:ext cx="92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10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299120" y="5611680"/>
            <a:ext cx="75960" cy="21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370400" y="56102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45720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78944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0166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24196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67368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65632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85612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08976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3054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90084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359240" y="519120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370400" y="550404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3704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506920" y="5649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996160" y="5649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473880" y="5649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429160" y="5492880"/>
            <a:ext cx="21600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819760" y="552600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283440" y="551988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370400" y="572436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7135920" y="5506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375680" y="5510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450040" y="50706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6531120" y="51246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76104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7504200" y="5950080"/>
            <a:ext cx="215640" cy="7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7504200" y="59500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7613640" y="5734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578720" y="56959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578720" y="59119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345280" y="5043600"/>
            <a:ext cx="215640" cy="7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345280" y="51102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419800" y="5072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424560" y="5043600"/>
            <a:ext cx="216000" cy="71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424560" y="5110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499080" y="5072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411880" y="5699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496200" y="577692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60720" y="32623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684360" y="4799160"/>
            <a:ext cx="75960" cy="215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755640" y="4797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1892160" y="4780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387520" y="4730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859120" y="4716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820880" y="465768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211480" y="461340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674800" y="458640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55640" y="491184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835280" y="4226040"/>
            <a:ext cx="0" cy="61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916360" y="4226040"/>
            <a:ext cx="0" cy="20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889440" y="5137200"/>
            <a:ext cx="216000" cy="71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3889440" y="5137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998880" y="49212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963960" y="5099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730520" y="4124160"/>
            <a:ext cx="215640" cy="7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730520" y="41911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805040" y="4152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809800" y="4124160"/>
            <a:ext cx="216000" cy="716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809800" y="4191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884320" y="4152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797120" y="4781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916360" y="435600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flipV="1">
            <a:off x="2916360" y="456084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962520" y="48690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49160" y="3092400"/>
            <a:ext cx="3206880" cy="235080"/>
          </a:xfrm>
          <a:custGeom>
            <a:avLst/>
            <a:gdLst/>
            <a:ahLst/>
            <a:rect l="l" t="t" r="r" b="b"/>
            <a:pathLst>
              <a:path w="2020" h="148">
                <a:moveTo>
                  <a:pt x="0" y="129"/>
                </a:moveTo>
                <a:cubicBezTo>
                  <a:pt x="11" y="129"/>
                  <a:pt x="25" y="132"/>
                  <a:pt x="68" y="129"/>
                </a:cubicBezTo>
                <a:cubicBezTo>
                  <a:pt x="111" y="126"/>
                  <a:pt x="191" y="123"/>
                  <a:pt x="256" y="113"/>
                </a:cubicBezTo>
                <a:cubicBezTo>
                  <a:pt x="321" y="103"/>
                  <a:pt x="395" y="85"/>
                  <a:pt x="458" y="70"/>
                </a:cubicBezTo>
                <a:cubicBezTo>
                  <a:pt x="521" y="55"/>
                  <a:pt x="568" y="37"/>
                  <a:pt x="632" y="25"/>
                </a:cubicBezTo>
                <a:cubicBezTo>
                  <a:pt x="696" y="13"/>
                  <a:pt x="769" y="2"/>
                  <a:pt x="840" y="1"/>
                </a:cubicBezTo>
                <a:cubicBezTo>
                  <a:pt x="911" y="0"/>
                  <a:pt x="987" y="12"/>
                  <a:pt x="1056" y="21"/>
                </a:cubicBezTo>
                <a:cubicBezTo>
                  <a:pt x="1125" y="30"/>
                  <a:pt x="1179" y="42"/>
                  <a:pt x="1256" y="57"/>
                </a:cubicBezTo>
                <a:cubicBezTo>
                  <a:pt x="1333" y="72"/>
                  <a:pt x="1435" y="98"/>
                  <a:pt x="1520" y="113"/>
                </a:cubicBezTo>
                <a:cubicBezTo>
                  <a:pt x="1605" y="128"/>
                  <a:pt x="1685" y="142"/>
                  <a:pt x="1768" y="145"/>
                </a:cubicBezTo>
                <a:cubicBezTo>
                  <a:pt x="1851" y="148"/>
                  <a:pt x="1968" y="135"/>
                  <a:pt x="2020" y="13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881440" y="313704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62120" y="4782960"/>
            <a:ext cx="3200400" cy="138240"/>
          </a:xfrm>
          <a:custGeom>
            <a:avLst/>
            <a:gdLst/>
            <a:ahLst/>
            <a:rect l="l" t="t" r="r" b="b"/>
            <a:pathLst>
              <a:path w="2016" h="140">
                <a:moveTo>
                  <a:pt x="0" y="130"/>
                </a:moveTo>
                <a:cubicBezTo>
                  <a:pt x="11" y="130"/>
                  <a:pt x="25" y="129"/>
                  <a:pt x="64" y="130"/>
                </a:cubicBezTo>
                <a:cubicBezTo>
                  <a:pt x="103" y="131"/>
                  <a:pt x="168" y="140"/>
                  <a:pt x="236" y="138"/>
                </a:cubicBezTo>
                <a:cubicBezTo>
                  <a:pt x="304" y="136"/>
                  <a:pt x="405" y="126"/>
                  <a:pt x="472" y="118"/>
                </a:cubicBezTo>
                <a:cubicBezTo>
                  <a:pt x="539" y="110"/>
                  <a:pt x="581" y="101"/>
                  <a:pt x="640" y="90"/>
                </a:cubicBezTo>
                <a:cubicBezTo>
                  <a:pt x="699" y="79"/>
                  <a:pt x="763" y="65"/>
                  <a:pt x="824" y="54"/>
                </a:cubicBezTo>
                <a:cubicBezTo>
                  <a:pt x="885" y="43"/>
                  <a:pt x="949" y="30"/>
                  <a:pt x="1008" y="22"/>
                </a:cubicBezTo>
                <a:cubicBezTo>
                  <a:pt x="1067" y="14"/>
                  <a:pt x="1121" y="9"/>
                  <a:pt x="1180" y="6"/>
                </a:cubicBezTo>
                <a:cubicBezTo>
                  <a:pt x="1239" y="3"/>
                  <a:pt x="1302" y="0"/>
                  <a:pt x="1364" y="2"/>
                </a:cubicBezTo>
                <a:cubicBezTo>
                  <a:pt x="1426" y="4"/>
                  <a:pt x="1480" y="8"/>
                  <a:pt x="1552" y="18"/>
                </a:cubicBezTo>
                <a:cubicBezTo>
                  <a:pt x="1624" y="28"/>
                  <a:pt x="1719" y="45"/>
                  <a:pt x="1796" y="62"/>
                </a:cubicBezTo>
                <a:cubicBezTo>
                  <a:pt x="1873" y="79"/>
                  <a:pt x="1970" y="106"/>
                  <a:pt x="2016" y="11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855880" y="4425840"/>
            <a:ext cx="995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ru-RU" sz="16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10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к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971640" y="2700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939960" y="2679840"/>
            <a:ext cx="64764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971640" y="4376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939960" y="4356000"/>
            <a:ext cx="64764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55640" y="3537000"/>
            <a:ext cx="3240000" cy="404640"/>
          </a:xfrm>
          <a:custGeom>
            <a:avLst/>
            <a:gdLst/>
            <a:ahLst/>
            <a:rect l="l" t="t" r="r" b="b"/>
            <a:pathLst>
              <a:path w="2041" h="255">
                <a:moveTo>
                  <a:pt x="0" y="119"/>
                </a:moveTo>
                <a:lnTo>
                  <a:pt x="0" y="255"/>
                </a:lnTo>
                <a:lnTo>
                  <a:pt x="680" y="0"/>
                </a:lnTo>
                <a:lnTo>
                  <a:pt x="1368" y="176"/>
                </a:lnTo>
                <a:lnTo>
                  <a:pt x="2041" y="119"/>
                </a:ln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755640" y="373212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835280" y="35402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28960" y="3726000"/>
            <a:ext cx="0" cy="8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73160" y="3740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5,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549440" y="32623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7,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79600" y="3683160"/>
            <a:ext cx="0" cy="4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556000" y="3740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,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189160" y="339264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,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276720" y="3790800"/>
            <a:ext cx="82224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301920" y="3693960"/>
            <a:ext cx="1008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762120" y="5156280"/>
            <a:ext cx="3241440" cy="288720"/>
          </a:xfrm>
          <a:custGeom>
            <a:avLst/>
            <a:gdLst/>
            <a:ahLst/>
            <a:rect l="l" t="t" r="r" b="b"/>
            <a:pathLst>
              <a:path w="2042" h="182">
                <a:moveTo>
                  <a:pt x="1" y="108"/>
                </a:moveTo>
                <a:lnTo>
                  <a:pt x="0" y="80"/>
                </a:lnTo>
                <a:lnTo>
                  <a:pt x="681" y="182"/>
                </a:lnTo>
                <a:lnTo>
                  <a:pt x="1368" y="0"/>
                </a:lnTo>
                <a:lnTo>
                  <a:pt x="2042" y="108"/>
                </a:lnTo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57080" y="533232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935440" y="51516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835280" y="5326200"/>
            <a:ext cx="0" cy="11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03280" y="5013360"/>
            <a:ext cx="6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22440" y="53848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387520" y="5295960"/>
            <a:ext cx="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660760" y="4869000"/>
            <a:ext cx="6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979640" y="50115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284640" y="5353200"/>
            <a:ext cx="82224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308400" y="5262480"/>
            <a:ext cx="1008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08080" y="5578560"/>
            <a:ext cx="1873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тр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лия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гулятор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1496880" y="5635800"/>
                <a:ext cx="18259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7,87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24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,3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69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,1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379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3" name=""/>
          <p:cNvSpPr/>
          <p:nvPr/>
        </p:nvSpPr>
        <p:spPr>
          <a:xfrm>
            <a:off x="225360" y="6275520"/>
            <a:ext cx="4249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Эпюры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еподобны – регулят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i="1" lang="ru-RU" sz="1400" spc="-1" strike="noStrike">
                <a:solidFill>
                  <a:srgbClr val="333399"/>
                </a:solidFill>
                <a:latin typeface="Arial Narrow"/>
              </a:rPr>
              <a:t>независимые</a:t>
            </a:r>
            <a:r>
              <a:rPr b="1" i="1" lang="en-US" sz="14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4367160" y="5716440"/>
            <a:ext cx="3219480" cy="212760"/>
          </a:xfrm>
          <a:custGeom>
            <a:avLst/>
            <a:gdLst/>
            <a:ahLst/>
            <a:rect l="l" t="t" r="r" b="b"/>
            <a:pathLst>
              <a:path w="2028" h="134">
                <a:moveTo>
                  <a:pt x="0" y="3"/>
                </a:moveTo>
                <a:cubicBezTo>
                  <a:pt x="11" y="3"/>
                  <a:pt x="37" y="0"/>
                  <a:pt x="70" y="5"/>
                </a:cubicBezTo>
                <a:cubicBezTo>
                  <a:pt x="103" y="10"/>
                  <a:pt x="152" y="27"/>
                  <a:pt x="200" y="35"/>
                </a:cubicBezTo>
                <a:cubicBezTo>
                  <a:pt x="248" y="43"/>
                  <a:pt x="309" y="52"/>
                  <a:pt x="360" y="55"/>
                </a:cubicBezTo>
                <a:cubicBezTo>
                  <a:pt x="411" y="58"/>
                  <a:pt x="457" y="53"/>
                  <a:pt x="504" y="51"/>
                </a:cubicBezTo>
                <a:cubicBezTo>
                  <a:pt x="551" y="49"/>
                  <a:pt x="593" y="42"/>
                  <a:pt x="640" y="43"/>
                </a:cubicBezTo>
                <a:cubicBezTo>
                  <a:pt x="687" y="44"/>
                  <a:pt x="739" y="50"/>
                  <a:pt x="784" y="59"/>
                </a:cubicBezTo>
                <a:cubicBezTo>
                  <a:pt x="829" y="68"/>
                  <a:pt x="870" y="88"/>
                  <a:pt x="908" y="99"/>
                </a:cubicBezTo>
                <a:cubicBezTo>
                  <a:pt x="946" y="110"/>
                  <a:pt x="973" y="122"/>
                  <a:pt x="1012" y="127"/>
                </a:cubicBezTo>
                <a:cubicBezTo>
                  <a:pt x="1051" y="132"/>
                  <a:pt x="1103" y="134"/>
                  <a:pt x="1144" y="131"/>
                </a:cubicBezTo>
                <a:cubicBezTo>
                  <a:pt x="1185" y="128"/>
                  <a:pt x="1223" y="113"/>
                  <a:pt x="1260" y="107"/>
                </a:cubicBezTo>
                <a:cubicBezTo>
                  <a:pt x="1297" y="101"/>
                  <a:pt x="1324" y="97"/>
                  <a:pt x="1364" y="95"/>
                </a:cubicBezTo>
                <a:cubicBezTo>
                  <a:pt x="1404" y="93"/>
                  <a:pt x="1447" y="92"/>
                  <a:pt x="1500" y="95"/>
                </a:cubicBezTo>
                <a:cubicBezTo>
                  <a:pt x="1553" y="98"/>
                  <a:pt x="1621" y="115"/>
                  <a:pt x="1680" y="115"/>
                </a:cubicBezTo>
                <a:cubicBezTo>
                  <a:pt x="1739" y="115"/>
                  <a:pt x="1798" y="109"/>
                  <a:pt x="1856" y="94"/>
                </a:cubicBezTo>
                <a:cubicBezTo>
                  <a:pt x="1914" y="79"/>
                  <a:pt x="1992" y="41"/>
                  <a:pt x="2028" y="2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389480" y="4788000"/>
            <a:ext cx="40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Расчёт системы на заданную нагрузку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813280" y="5094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5761080" y="5103720"/>
            <a:ext cx="463680" cy="35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373640" y="5896080"/>
            <a:ext cx="3238560" cy="503280"/>
          </a:xfrm>
          <a:custGeom>
            <a:avLst/>
            <a:gdLst/>
            <a:ahLst/>
            <a:rect l="l" t="t" r="r" b="b"/>
            <a:pathLst>
              <a:path w="2040" h="317">
                <a:moveTo>
                  <a:pt x="0" y="214"/>
                </a:moveTo>
                <a:cubicBezTo>
                  <a:pt x="0" y="178"/>
                  <a:pt x="0" y="118"/>
                  <a:pt x="0" y="0"/>
                </a:cubicBezTo>
                <a:cubicBezTo>
                  <a:pt x="44" y="59"/>
                  <a:pt x="68" y="78"/>
                  <a:pt x="104" y="109"/>
                </a:cubicBezTo>
                <a:cubicBezTo>
                  <a:pt x="140" y="139"/>
                  <a:pt x="172" y="162"/>
                  <a:pt x="216" y="183"/>
                </a:cubicBezTo>
                <a:cubicBezTo>
                  <a:pt x="260" y="204"/>
                  <a:pt x="314" y="227"/>
                  <a:pt x="368" y="236"/>
                </a:cubicBezTo>
                <a:cubicBezTo>
                  <a:pt x="422" y="244"/>
                  <a:pt x="487" y="243"/>
                  <a:pt x="540" y="233"/>
                </a:cubicBezTo>
                <a:cubicBezTo>
                  <a:pt x="593" y="222"/>
                  <a:pt x="640" y="195"/>
                  <a:pt x="688" y="171"/>
                </a:cubicBezTo>
                <a:cubicBezTo>
                  <a:pt x="736" y="198"/>
                  <a:pt x="750" y="207"/>
                  <a:pt x="788" y="226"/>
                </a:cubicBezTo>
                <a:cubicBezTo>
                  <a:pt x="825" y="246"/>
                  <a:pt x="868" y="272"/>
                  <a:pt x="908" y="285"/>
                </a:cubicBezTo>
                <a:cubicBezTo>
                  <a:pt x="948" y="298"/>
                  <a:pt x="986" y="306"/>
                  <a:pt x="1028" y="307"/>
                </a:cubicBezTo>
                <a:cubicBezTo>
                  <a:pt x="1070" y="308"/>
                  <a:pt x="1117" y="303"/>
                  <a:pt x="1160" y="288"/>
                </a:cubicBezTo>
                <a:cubicBezTo>
                  <a:pt x="1203" y="274"/>
                  <a:pt x="1249" y="243"/>
                  <a:pt x="1284" y="220"/>
                </a:cubicBezTo>
                <a:cubicBezTo>
                  <a:pt x="1319" y="198"/>
                  <a:pt x="1324" y="189"/>
                  <a:pt x="1368" y="155"/>
                </a:cubicBezTo>
                <a:cubicBezTo>
                  <a:pt x="1412" y="192"/>
                  <a:pt x="1445" y="215"/>
                  <a:pt x="1484" y="239"/>
                </a:cubicBezTo>
                <a:cubicBezTo>
                  <a:pt x="1523" y="262"/>
                  <a:pt x="1559" y="281"/>
                  <a:pt x="1604" y="295"/>
                </a:cubicBezTo>
                <a:cubicBezTo>
                  <a:pt x="1649" y="308"/>
                  <a:pt x="1703" y="317"/>
                  <a:pt x="1752" y="316"/>
                </a:cubicBezTo>
                <a:cubicBezTo>
                  <a:pt x="1801" y="315"/>
                  <a:pt x="1852" y="309"/>
                  <a:pt x="1900" y="291"/>
                </a:cubicBezTo>
                <a:cubicBezTo>
                  <a:pt x="1948" y="273"/>
                  <a:pt x="2011" y="225"/>
                  <a:pt x="2040" y="208"/>
                </a:cubicBez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371840" y="622944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008760" y="6230880"/>
            <a:ext cx="0" cy="1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543720" y="6146640"/>
            <a:ext cx="0" cy="8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5464080" y="6165720"/>
            <a:ext cx="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7061040" y="6230880"/>
            <a:ext cx="0" cy="1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540560" y="6199200"/>
            <a:ext cx="1224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7527960" y="6226200"/>
            <a:ext cx="463680" cy="365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7872480" y="5065560"/>
            <a:ext cx="1077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тр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илий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груз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7742160" y="5540400"/>
                <a:ext cx="1139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,90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2,31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,48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4678200" y="3484440"/>
                <a:ext cx="41418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7,87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24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,3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69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,1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379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9,22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672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,8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948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4799160" y="4127400"/>
                <a:ext cx="37940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,90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2,3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,48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9,41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9,83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5842080" y="2749680"/>
                <a:ext cx="1593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i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1" name=""/>
          <p:cNvSpPr/>
          <p:nvPr/>
        </p:nvSpPr>
        <p:spPr>
          <a:xfrm>
            <a:off x="4346640" y="5734080"/>
            <a:ext cx="8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4,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5076720" y="588024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2,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159600" y="5857920"/>
            <a:ext cx="6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2,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735600" y="632952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3,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692680" y="631512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2,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581360" y="6222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,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7159680" y="2265480"/>
                <a:ext cx="14428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8" name=""/>
          <p:cNvSpPr/>
          <p:nvPr/>
        </p:nvSpPr>
        <p:spPr>
          <a:xfrm>
            <a:off x="7427880" y="3035160"/>
            <a:ext cx="1460520" cy="270000"/>
          </a:xfrm>
          <a:prstGeom prst="rect">
            <a:avLst/>
          </a:prstGeom>
          <a:solidFill>
            <a:srgbClr val="c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4" dur="indefinite" restart="never" nodeType="tmRoot">
          <p:childTnLst>
            <p:seq>
              <p:cTn id="4935" dur="indefinite" nodeType="mainSeq">
                <p:childTnLst>
                  <p:par>
                    <p:cTn id="4936" fill="hold">
                      <p:stCondLst>
                        <p:cond delay="0"/>
                      </p:stCondLst>
                      <p:childTnLst>
                        <p:par>
                          <p:cTn id="4937" fill="hold">
                            <p:stCondLst>
                              <p:cond delay="0"/>
                            </p:stCondLst>
                            <p:childTnLst>
                              <p:par>
                                <p:cTn id="49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0" dur="80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1" dur="80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2" dur="80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3" fill="hold">
                            <p:stCondLst>
                              <p:cond delay="1360"/>
                            </p:stCondLst>
                            <p:childTnLst>
                              <p:par>
                                <p:cTn id="49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6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7" dur="1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8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9" fill="hold">
                            <p:stCondLst>
                              <p:cond delay="2360"/>
                            </p:stCondLst>
                            <p:childTnLst>
                              <p:par>
                                <p:cTn id="49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2" dur="1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3" dur="1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4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50920" y="264960"/>
            <a:ext cx="8642160" cy="361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Book Antiqua"/>
              </a:rPr>
              <a:t>Пример  решения  задачи  регулирования усилий в С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84360" y="1635120"/>
            <a:ext cx="7596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55640" y="1639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9572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1746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4018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62720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30592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04156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24172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47500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690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2860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6480" y="123048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55640" y="15336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55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189216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38140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85912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820880" y="155736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205000" y="156204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74800" y="156204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755640" y="175428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521160" y="15368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76092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835280" y="10684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916360" y="10684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995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889440" y="1979640"/>
            <a:ext cx="21600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889440" y="19796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998880" y="1763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3963960" y="1725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963960" y="1941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730520" y="966960"/>
            <a:ext cx="21564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730520" y="10335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805040" y="9954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809800" y="966960"/>
            <a:ext cx="216000" cy="7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809800" y="1033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884320" y="9954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797120" y="16686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881440" y="166860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068480" y="1728720"/>
            <a:ext cx="479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508120" y="1243080"/>
            <a:ext cx="47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776240" y="1244520"/>
            <a:ext cx="47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916360" y="112716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2916360" y="131112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920960" y="103968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1776240" y="1184400"/>
            <a:ext cx="28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017800" y="103500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1979640" y="10018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973160" y="114624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755640" y="2219400"/>
            <a:ext cx="32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755640" y="183348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835280" y="183996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2916360" y="183996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86080" y="1871640"/>
            <a:ext cx="0" cy="3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995640" y="2112840"/>
            <a:ext cx="0" cy="163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15880" y="1036800"/>
            <a:ext cx="1150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14440" y="17557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571680" y="103356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33520" y="10018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27040" y="17146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72396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180180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234648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2881440" y="217980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3957120" y="2179800"/>
            <a:ext cx="7164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071720" y="1962000"/>
            <a:ext cx="479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30984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97964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51136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303480" y="123156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059280" y="687240"/>
            <a:ext cx="1728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3008160" y="871560"/>
            <a:ext cx="1729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5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175280" y="701640"/>
            <a:ext cx="4789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Т р е б у е т с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обеспечить выравн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абсолютных величин изгибающих мо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в концевых и среднем сечени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среднего пролёта б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309920" y="1641600"/>
            <a:ext cx="45277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за счёт начального укоро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(удлинения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левой подв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308480" y="2017800"/>
            <a:ext cx="4527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и  предварительного напряжения пра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992240" y="90972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887560" y="113364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33"/>
                </a:solidFill>
                <a:latin typeface="Times New Roman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390920" y="2274840"/>
            <a:ext cx="417528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Р е ш е н и е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Регулируемые параме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егуля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406760" y="3174840"/>
            <a:ext cx="4268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Уравнения регулировани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 + B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04840" y="2298600"/>
            <a:ext cx="424800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4. Расчёт на действие единичных регуляторов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82560" y="3186000"/>
            <a:ext cx="76320" cy="21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754200" y="31910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890720" y="3038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379600" y="30448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857680" y="3132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19440" y="290340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203560" y="290844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673360" y="299412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754200" y="330516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833480" y="2619360"/>
            <a:ext cx="0" cy="4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914560" y="2619360"/>
            <a:ext cx="0" cy="5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887640" y="3530520"/>
            <a:ext cx="21600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887640" y="3530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997440" y="3314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962520" y="3492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728720" y="2517840"/>
            <a:ext cx="21600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728720" y="2584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1803240" y="25462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808360" y="2517840"/>
            <a:ext cx="216000" cy="7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808360" y="2584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882880" y="25462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795320" y="3035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19160" y="2590920"/>
            <a:ext cx="14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774800" y="273528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016000" y="258588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978200" y="255276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971720" y="2697120"/>
            <a:ext cx="85680" cy="79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978200" y="2489040"/>
            <a:ext cx="92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10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4299120" y="5611680"/>
            <a:ext cx="75960" cy="21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370400" y="56102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5720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78944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0166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24196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7368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565632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585612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08976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3054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90084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359240" y="519120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370400" y="550404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3704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506920" y="5649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996160" y="5649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473880" y="5649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5429160" y="5492880"/>
            <a:ext cx="21600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5819760" y="552600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283440" y="551988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370400" y="572436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135920" y="5506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7375680" y="5510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450040" y="50706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6531120" y="51246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76104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7504200" y="5950080"/>
            <a:ext cx="215640" cy="7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7504200" y="59500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7613640" y="5734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7578720" y="56959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7578720" y="59119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5345280" y="5043600"/>
            <a:ext cx="215640" cy="7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5345280" y="51102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5419800" y="5072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6424560" y="5043600"/>
            <a:ext cx="216000" cy="71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6424560" y="5110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6499080" y="5072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5411880" y="5699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6496200" y="577692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960720" y="32623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684360" y="4799160"/>
            <a:ext cx="75960" cy="215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755640" y="4797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892160" y="4780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387520" y="4730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2859120" y="4716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820880" y="465768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211480" y="461340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674800" y="458640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755640" y="491184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835280" y="4226040"/>
            <a:ext cx="0" cy="61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916360" y="4226040"/>
            <a:ext cx="0" cy="20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889440" y="5137200"/>
            <a:ext cx="216000" cy="71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889440" y="5137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998880" y="49212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963960" y="5099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1730520" y="4124160"/>
            <a:ext cx="215640" cy="7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730520" y="41911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805040" y="4152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809800" y="4124160"/>
            <a:ext cx="216000" cy="716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809800" y="4191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884320" y="4152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1797120" y="4781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916360" y="435600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2916360" y="456084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3962520" y="48690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749160" y="3092400"/>
            <a:ext cx="3206880" cy="235080"/>
          </a:xfrm>
          <a:custGeom>
            <a:avLst/>
            <a:gdLst/>
            <a:ahLst/>
            <a:rect l="l" t="t" r="r" b="b"/>
            <a:pathLst>
              <a:path w="2020" h="148">
                <a:moveTo>
                  <a:pt x="0" y="129"/>
                </a:moveTo>
                <a:cubicBezTo>
                  <a:pt x="11" y="129"/>
                  <a:pt x="25" y="132"/>
                  <a:pt x="68" y="129"/>
                </a:cubicBezTo>
                <a:cubicBezTo>
                  <a:pt x="111" y="126"/>
                  <a:pt x="191" y="123"/>
                  <a:pt x="256" y="113"/>
                </a:cubicBezTo>
                <a:cubicBezTo>
                  <a:pt x="321" y="103"/>
                  <a:pt x="395" y="85"/>
                  <a:pt x="458" y="70"/>
                </a:cubicBezTo>
                <a:cubicBezTo>
                  <a:pt x="521" y="55"/>
                  <a:pt x="568" y="37"/>
                  <a:pt x="632" y="25"/>
                </a:cubicBezTo>
                <a:cubicBezTo>
                  <a:pt x="696" y="13"/>
                  <a:pt x="769" y="2"/>
                  <a:pt x="840" y="1"/>
                </a:cubicBezTo>
                <a:cubicBezTo>
                  <a:pt x="911" y="0"/>
                  <a:pt x="987" y="12"/>
                  <a:pt x="1056" y="21"/>
                </a:cubicBezTo>
                <a:cubicBezTo>
                  <a:pt x="1125" y="30"/>
                  <a:pt x="1179" y="42"/>
                  <a:pt x="1256" y="57"/>
                </a:cubicBezTo>
                <a:cubicBezTo>
                  <a:pt x="1333" y="72"/>
                  <a:pt x="1435" y="98"/>
                  <a:pt x="1520" y="113"/>
                </a:cubicBezTo>
                <a:cubicBezTo>
                  <a:pt x="1605" y="128"/>
                  <a:pt x="1685" y="142"/>
                  <a:pt x="1768" y="145"/>
                </a:cubicBezTo>
                <a:cubicBezTo>
                  <a:pt x="1851" y="148"/>
                  <a:pt x="1968" y="135"/>
                  <a:pt x="2020" y="13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881440" y="313704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762120" y="4782960"/>
            <a:ext cx="3200400" cy="138240"/>
          </a:xfrm>
          <a:custGeom>
            <a:avLst/>
            <a:gdLst/>
            <a:ahLst/>
            <a:rect l="l" t="t" r="r" b="b"/>
            <a:pathLst>
              <a:path w="2016" h="140">
                <a:moveTo>
                  <a:pt x="0" y="130"/>
                </a:moveTo>
                <a:cubicBezTo>
                  <a:pt x="11" y="130"/>
                  <a:pt x="25" y="129"/>
                  <a:pt x="64" y="130"/>
                </a:cubicBezTo>
                <a:cubicBezTo>
                  <a:pt x="103" y="131"/>
                  <a:pt x="168" y="140"/>
                  <a:pt x="236" y="138"/>
                </a:cubicBezTo>
                <a:cubicBezTo>
                  <a:pt x="304" y="136"/>
                  <a:pt x="405" y="126"/>
                  <a:pt x="472" y="118"/>
                </a:cubicBezTo>
                <a:cubicBezTo>
                  <a:pt x="539" y="110"/>
                  <a:pt x="581" y="101"/>
                  <a:pt x="640" y="90"/>
                </a:cubicBezTo>
                <a:cubicBezTo>
                  <a:pt x="699" y="79"/>
                  <a:pt x="763" y="65"/>
                  <a:pt x="824" y="54"/>
                </a:cubicBezTo>
                <a:cubicBezTo>
                  <a:pt x="885" y="43"/>
                  <a:pt x="949" y="30"/>
                  <a:pt x="1008" y="22"/>
                </a:cubicBezTo>
                <a:cubicBezTo>
                  <a:pt x="1067" y="14"/>
                  <a:pt x="1121" y="9"/>
                  <a:pt x="1180" y="6"/>
                </a:cubicBezTo>
                <a:cubicBezTo>
                  <a:pt x="1239" y="3"/>
                  <a:pt x="1302" y="0"/>
                  <a:pt x="1364" y="2"/>
                </a:cubicBezTo>
                <a:cubicBezTo>
                  <a:pt x="1426" y="4"/>
                  <a:pt x="1480" y="8"/>
                  <a:pt x="1552" y="18"/>
                </a:cubicBezTo>
                <a:cubicBezTo>
                  <a:pt x="1624" y="28"/>
                  <a:pt x="1719" y="45"/>
                  <a:pt x="1796" y="62"/>
                </a:cubicBezTo>
                <a:cubicBezTo>
                  <a:pt x="1873" y="79"/>
                  <a:pt x="1970" y="106"/>
                  <a:pt x="2016" y="11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855880" y="4425840"/>
            <a:ext cx="995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ru-RU" sz="16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10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к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971640" y="2700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939960" y="2679840"/>
            <a:ext cx="64764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971640" y="4376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939960" y="4356000"/>
            <a:ext cx="64764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755640" y="3537000"/>
            <a:ext cx="3240000" cy="404640"/>
          </a:xfrm>
          <a:custGeom>
            <a:avLst/>
            <a:gdLst/>
            <a:ahLst/>
            <a:rect l="l" t="t" r="r" b="b"/>
            <a:pathLst>
              <a:path w="2041" h="255">
                <a:moveTo>
                  <a:pt x="0" y="119"/>
                </a:moveTo>
                <a:lnTo>
                  <a:pt x="0" y="255"/>
                </a:lnTo>
                <a:lnTo>
                  <a:pt x="680" y="0"/>
                </a:lnTo>
                <a:lnTo>
                  <a:pt x="1368" y="176"/>
                </a:lnTo>
                <a:lnTo>
                  <a:pt x="2041" y="119"/>
                </a:ln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755640" y="373212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1835280" y="35402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928960" y="3726000"/>
            <a:ext cx="0" cy="8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173160" y="3740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5,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549440" y="32623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7,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2379600" y="3683160"/>
            <a:ext cx="0" cy="4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2556000" y="3740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,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2189160" y="339264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,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276720" y="3790800"/>
            <a:ext cx="82224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301920" y="3693960"/>
            <a:ext cx="1008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762120" y="5156280"/>
            <a:ext cx="3241440" cy="288720"/>
          </a:xfrm>
          <a:custGeom>
            <a:avLst/>
            <a:gdLst/>
            <a:ahLst/>
            <a:rect l="l" t="t" r="r" b="b"/>
            <a:pathLst>
              <a:path w="2042" h="182">
                <a:moveTo>
                  <a:pt x="1" y="108"/>
                </a:moveTo>
                <a:lnTo>
                  <a:pt x="0" y="80"/>
                </a:lnTo>
                <a:lnTo>
                  <a:pt x="681" y="182"/>
                </a:lnTo>
                <a:lnTo>
                  <a:pt x="1368" y="0"/>
                </a:lnTo>
                <a:lnTo>
                  <a:pt x="2042" y="108"/>
                </a:lnTo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7080" y="533232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2935440" y="51516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1835280" y="5326200"/>
            <a:ext cx="0" cy="11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03280" y="5013360"/>
            <a:ext cx="6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1522440" y="53848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387520" y="5295960"/>
            <a:ext cx="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660760" y="4869000"/>
            <a:ext cx="6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979640" y="50115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3284640" y="5353200"/>
            <a:ext cx="82224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308400" y="5262480"/>
            <a:ext cx="1008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208080" y="5578560"/>
            <a:ext cx="1873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тр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лия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гулятор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1509840" y="5635800"/>
                <a:ext cx="181440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7,87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24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,3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69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,1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379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8" name=""/>
          <p:cNvSpPr/>
          <p:nvPr/>
        </p:nvSpPr>
        <p:spPr>
          <a:xfrm>
            <a:off x="225360" y="6275520"/>
            <a:ext cx="4249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Эпюры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еподобны – регулят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i="1" lang="ru-RU" sz="1400" spc="-1" strike="noStrike">
                <a:solidFill>
                  <a:srgbClr val="333399"/>
                </a:solidFill>
                <a:latin typeface="Arial Narrow"/>
              </a:rPr>
              <a:t>независимые</a:t>
            </a:r>
            <a:r>
              <a:rPr b="1" i="1" lang="en-US" sz="14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367160" y="5716440"/>
            <a:ext cx="3219480" cy="212760"/>
          </a:xfrm>
          <a:custGeom>
            <a:avLst/>
            <a:gdLst/>
            <a:ahLst/>
            <a:rect l="l" t="t" r="r" b="b"/>
            <a:pathLst>
              <a:path w="2028" h="134">
                <a:moveTo>
                  <a:pt x="0" y="3"/>
                </a:moveTo>
                <a:cubicBezTo>
                  <a:pt x="11" y="3"/>
                  <a:pt x="37" y="0"/>
                  <a:pt x="70" y="5"/>
                </a:cubicBezTo>
                <a:cubicBezTo>
                  <a:pt x="103" y="10"/>
                  <a:pt x="152" y="27"/>
                  <a:pt x="200" y="35"/>
                </a:cubicBezTo>
                <a:cubicBezTo>
                  <a:pt x="248" y="43"/>
                  <a:pt x="309" y="52"/>
                  <a:pt x="360" y="55"/>
                </a:cubicBezTo>
                <a:cubicBezTo>
                  <a:pt x="411" y="58"/>
                  <a:pt x="457" y="53"/>
                  <a:pt x="504" y="51"/>
                </a:cubicBezTo>
                <a:cubicBezTo>
                  <a:pt x="551" y="49"/>
                  <a:pt x="593" y="42"/>
                  <a:pt x="640" y="43"/>
                </a:cubicBezTo>
                <a:cubicBezTo>
                  <a:pt x="687" y="44"/>
                  <a:pt x="739" y="50"/>
                  <a:pt x="784" y="59"/>
                </a:cubicBezTo>
                <a:cubicBezTo>
                  <a:pt x="829" y="68"/>
                  <a:pt x="870" y="88"/>
                  <a:pt x="908" y="99"/>
                </a:cubicBezTo>
                <a:cubicBezTo>
                  <a:pt x="946" y="110"/>
                  <a:pt x="973" y="122"/>
                  <a:pt x="1012" y="127"/>
                </a:cubicBezTo>
                <a:cubicBezTo>
                  <a:pt x="1051" y="132"/>
                  <a:pt x="1103" y="134"/>
                  <a:pt x="1144" y="131"/>
                </a:cubicBezTo>
                <a:cubicBezTo>
                  <a:pt x="1185" y="128"/>
                  <a:pt x="1223" y="113"/>
                  <a:pt x="1260" y="107"/>
                </a:cubicBezTo>
                <a:cubicBezTo>
                  <a:pt x="1297" y="101"/>
                  <a:pt x="1324" y="97"/>
                  <a:pt x="1364" y="95"/>
                </a:cubicBezTo>
                <a:cubicBezTo>
                  <a:pt x="1404" y="93"/>
                  <a:pt x="1447" y="92"/>
                  <a:pt x="1500" y="95"/>
                </a:cubicBezTo>
                <a:cubicBezTo>
                  <a:pt x="1553" y="98"/>
                  <a:pt x="1621" y="115"/>
                  <a:pt x="1680" y="115"/>
                </a:cubicBezTo>
                <a:cubicBezTo>
                  <a:pt x="1739" y="115"/>
                  <a:pt x="1798" y="109"/>
                  <a:pt x="1856" y="94"/>
                </a:cubicBezTo>
                <a:cubicBezTo>
                  <a:pt x="1914" y="79"/>
                  <a:pt x="1992" y="41"/>
                  <a:pt x="2028" y="2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389480" y="4788000"/>
            <a:ext cx="40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Расчёт системы на заданную нагрузку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5813280" y="5094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761080" y="5103720"/>
            <a:ext cx="463680" cy="35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373640" y="5896080"/>
            <a:ext cx="3238560" cy="503280"/>
          </a:xfrm>
          <a:custGeom>
            <a:avLst/>
            <a:gdLst/>
            <a:ahLst/>
            <a:rect l="l" t="t" r="r" b="b"/>
            <a:pathLst>
              <a:path w="2040" h="317">
                <a:moveTo>
                  <a:pt x="0" y="214"/>
                </a:moveTo>
                <a:cubicBezTo>
                  <a:pt x="0" y="178"/>
                  <a:pt x="0" y="118"/>
                  <a:pt x="0" y="0"/>
                </a:cubicBezTo>
                <a:cubicBezTo>
                  <a:pt x="44" y="59"/>
                  <a:pt x="68" y="78"/>
                  <a:pt x="104" y="109"/>
                </a:cubicBezTo>
                <a:cubicBezTo>
                  <a:pt x="140" y="139"/>
                  <a:pt x="172" y="162"/>
                  <a:pt x="216" y="183"/>
                </a:cubicBezTo>
                <a:cubicBezTo>
                  <a:pt x="260" y="204"/>
                  <a:pt x="314" y="227"/>
                  <a:pt x="368" y="236"/>
                </a:cubicBezTo>
                <a:cubicBezTo>
                  <a:pt x="422" y="244"/>
                  <a:pt x="487" y="243"/>
                  <a:pt x="540" y="233"/>
                </a:cubicBezTo>
                <a:cubicBezTo>
                  <a:pt x="593" y="222"/>
                  <a:pt x="640" y="195"/>
                  <a:pt x="688" y="171"/>
                </a:cubicBezTo>
                <a:cubicBezTo>
                  <a:pt x="736" y="198"/>
                  <a:pt x="750" y="207"/>
                  <a:pt x="788" y="226"/>
                </a:cubicBezTo>
                <a:cubicBezTo>
                  <a:pt x="825" y="246"/>
                  <a:pt x="868" y="272"/>
                  <a:pt x="908" y="285"/>
                </a:cubicBezTo>
                <a:cubicBezTo>
                  <a:pt x="948" y="298"/>
                  <a:pt x="986" y="306"/>
                  <a:pt x="1028" y="307"/>
                </a:cubicBezTo>
                <a:cubicBezTo>
                  <a:pt x="1070" y="308"/>
                  <a:pt x="1117" y="303"/>
                  <a:pt x="1160" y="288"/>
                </a:cubicBezTo>
                <a:cubicBezTo>
                  <a:pt x="1203" y="274"/>
                  <a:pt x="1249" y="243"/>
                  <a:pt x="1284" y="220"/>
                </a:cubicBezTo>
                <a:cubicBezTo>
                  <a:pt x="1319" y="198"/>
                  <a:pt x="1324" y="189"/>
                  <a:pt x="1368" y="155"/>
                </a:cubicBezTo>
                <a:cubicBezTo>
                  <a:pt x="1412" y="192"/>
                  <a:pt x="1445" y="215"/>
                  <a:pt x="1484" y="239"/>
                </a:cubicBezTo>
                <a:cubicBezTo>
                  <a:pt x="1523" y="262"/>
                  <a:pt x="1559" y="281"/>
                  <a:pt x="1604" y="295"/>
                </a:cubicBezTo>
                <a:cubicBezTo>
                  <a:pt x="1649" y="308"/>
                  <a:pt x="1703" y="317"/>
                  <a:pt x="1752" y="316"/>
                </a:cubicBezTo>
                <a:cubicBezTo>
                  <a:pt x="1801" y="315"/>
                  <a:pt x="1852" y="309"/>
                  <a:pt x="1900" y="291"/>
                </a:cubicBezTo>
                <a:cubicBezTo>
                  <a:pt x="1948" y="273"/>
                  <a:pt x="2011" y="225"/>
                  <a:pt x="2040" y="208"/>
                </a:cubicBez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371840" y="622944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6008760" y="6230880"/>
            <a:ext cx="0" cy="1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6543720" y="6146640"/>
            <a:ext cx="0" cy="8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5464080" y="6165720"/>
            <a:ext cx="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7061040" y="6230880"/>
            <a:ext cx="0" cy="1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7540560" y="6199200"/>
            <a:ext cx="1224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7527960" y="6226200"/>
            <a:ext cx="463680" cy="365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7872480" y="5065560"/>
            <a:ext cx="1077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тр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илий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груз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7740720" y="5540400"/>
                <a:ext cx="1141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,90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2,31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,48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4678200" y="3484440"/>
                <a:ext cx="41418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7,87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24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,3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69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,1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379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9,22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672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,8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948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4799160" y="4127400"/>
                <a:ext cx="37940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,90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2,3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,48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9,41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9,83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842080" y="2749680"/>
                <a:ext cx="1593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i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6" name=""/>
          <p:cNvSpPr/>
          <p:nvPr/>
        </p:nvSpPr>
        <p:spPr>
          <a:xfrm>
            <a:off x="4427640" y="3814920"/>
            <a:ext cx="179280" cy="323640"/>
          </a:xfrm>
          <a:custGeom>
            <a:avLst/>
            <a:gdLst>
              <a:gd name="textAreaLeft" fmla="*/ 23760 w 179280"/>
              <a:gd name="textAreaRight" fmla="*/ 155520 w 179280"/>
              <a:gd name="textAreaTop" fmla="*/ 56520 h 323640"/>
              <a:gd name="textAreaBottom" fmla="*/ 234720 h 32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rot="11044800">
            <a:off x="4427280" y="4149720"/>
            <a:ext cx="179280" cy="324000"/>
          </a:xfrm>
          <a:custGeom>
            <a:avLst/>
            <a:gdLst>
              <a:gd name="textAreaLeft" fmla="*/ 23760 w 179280"/>
              <a:gd name="textAreaRight" fmla="*/ 155520 w 179280"/>
              <a:gd name="textAreaTop" fmla="*/ 56520 h 324000"/>
              <a:gd name="textAreaBottom" fmla="*/ 23508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4618080" y="3841920"/>
                <a:ext cx="2862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9,2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67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9,41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,82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948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9,83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4356000" y="4473720"/>
            <a:ext cx="4608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956 c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(укорочение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 к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астяж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356000" y="428292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 Narrow"/>
              </a:rPr>
              <a:t>Регулято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346640" y="5734080"/>
            <a:ext cx="8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4,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076720" y="588024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2,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6159600" y="5857920"/>
            <a:ext cx="6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2,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735600" y="632952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3,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5692680" y="631512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2,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581360" y="6222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,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159680" y="2265480"/>
                <a:ext cx="14428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9" name=""/>
          <p:cNvSpPr/>
          <p:nvPr/>
        </p:nvSpPr>
        <p:spPr>
          <a:xfrm>
            <a:off x="7427880" y="3035160"/>
            <a:ext cx="1460520" cy="270000"/>
          </a:xfrm>
          <a:prstGeom prst="rect">
            <a:avLst/>
          </a:prstGeom>
          <a:solidFill>
            <a:srgbClr val="c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5" dur="indefinite" restart="never" nodeType="tmRoot">
          <p:childTnLst>
            <p:seq>
              <p:cTn id="4956" dur="indefinite" nodeType="mainSeq">
                <p:childTnLst>
                  <p:par>
                    <p:cTn id="4957" fill="hold">
                      <p:stCondLst>
                        <p:cond delay="0"/>
                      </p:stCondLst>
                      <p:childTnLst>
                        <p:par>
                          <p:cTn id="4958" fill="hold">
                            <p:stCondLst>
                              <p:cond delay="0"/>
                            </p:stCondLst>
                            <p:childTnLst>
                              <p:par>
                                <p:cTn id="49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0" dur="2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3" dur="20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7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8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9" dur="1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2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3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4" dur="1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7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8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9" dur="1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2" dur="10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5" dur="1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7" fill="hold">
                      <p:stCondLst>
                        <p:cond delay="indefinite"/>
                      </p:stCondLst>
                      <p:childTnLst>
                        <p:par>
                          <p:cTn id="4988" fill="hold">
                            <p:stCondLst>
                              <p:cond delay="0"/>
                            </p:stCondLst>
                            <p:childTnLst>
                              <p:par>
                                <p:cTn id="4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1" dur="80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2" dur="80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3" dur="80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4" fill="hold">
                            <p:stCondLst>
                              <p:cond delay="480"/>
                            </p:stCondLst>
                            <p:childTnLst>
                              <p:par>
                                <p:cTn id="4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7" dur="80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8" dur="80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9" dur="80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50920" y="264960"/>
            <a:ext cx="8642160" cy="361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Book Antiqua"/>
              </a:rPr>
              <a:t>Пример  решения  задачи  регулирования усилий в С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684360" y="1635120"/>
            <a:ext cx="7596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755640" y="1639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9572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1746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14018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162720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30592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04156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24172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47500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690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328608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636480" y="123048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755640" y="15336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755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189216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38140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2859120" y="16794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820880" y="155736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205000" y="156204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674800" y="156204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755640" y="175428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3521160" y="15368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760920" y="153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835280" y="10684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2916360" y="10684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995640" y="1535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889440" y="1979640"/>
            <a:ext cx="21600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3889440" y="19796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3998880" y="1763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963960" y="1725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963960" y="1941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1730520" y="966960"/>
            <a:ext cx="21564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730520" y="10335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1805040" y="9954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2809800" y="966960"/>
            <a:ext cx="216000" cy="7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809800" y="1033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2884320" y="99540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1797120" y="16686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2881440" y="166860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1068480" y="1728720"/>
            <a:ext cx="479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2508120" y="1243080"/>
            <a:ext cx="47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776240" y="1244520"/>
            <a:ext cx="479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2916360" y="112716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916360" y="131112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1920960" y="103968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1776240" y="1184400"/>
            <a:ext cx="28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017800" y="103500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1979640" y="10018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973160" y="114624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55640" y="2219400"/>
            <a:ext cx="32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55640" y="183348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835280" y="183996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916360" y="1839960"/>
            <a:ext cx="0" cy="433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2386080" y="1871640"/>
            <a:ext cx="0" cy="3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3995640" y="2112840"/>
            <a:ext cx="0" cy="163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15880" y="1036800"/>
            <a:ext cx="1150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14440" y="175572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71680" y="103356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533520" y="10018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27040" y="171468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72396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180180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2346480" y="217476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2881440" y="2179800"/>
            <a:ext cx="7128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3957120" y="2179800"/>
            <a:ext cx="71640" cy="85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1071720" y="1962000"/>
            <a:ext cx="479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30984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197964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511360" y="196380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rot="16200000">
            <a:off x="303480" y="1231560"/>
            <a:ext cx="331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059280" y="687240"/>
            <a:ext cx="1728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3008160" y="871560"/>
            <a:ext cx="1729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5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2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175280" y="701640"/>
            <a:ext cx="4789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Т р е б у е т с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обеспечить выравн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абсолютных величин изгибающих момен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в концевых и среднем сечени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среднего пролёта ба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4309920" y="1641600"/>
            <a:ext cx="45277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за счёт начального укоро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(удлинения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левой подв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4308480" y="2017800"/>
            <a:ext cx="4527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и  предварительного напряжения пра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992240" y="90972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2887560" y="1133640"/>
            <a:ext cx="576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990033"/>
                </a:solidFill>
                <a:latin typeface="Times New Roman"/>
              </a:rPr>
              <a:t>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4390920" y="2274840"/>
            <a:ext cx="417528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Р е ш е н и е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Регулируемые параме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егуля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204840" y="2298600"/>
            <a:ext cx="424800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4. Расчёт на действие единичных регуляторов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82560" y="3186000"/>
            <a:ext cx="76320" cy="21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754200" y="31910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90720" y="30384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379600" y="30448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857680" y="3132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9440" y="290340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203560" y="290844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673360" y="299412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754200" y="330516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33480" y="2619360"/>
            <a:ext cx="0" cy="46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914560" y="2619360"/>
            <a:ext cx="0" cy="5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887640" y="3530520"/>
            <a:ext cx="21600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3887640" y="3530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997440" y="3314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3962520" y="3492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1728720" y="2517840"/>
            <a:ext cx="21600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728720" y="2584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1803240" y="25462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808360" y="2517840"/>
            <a:ext cx="216000" cy="7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2808360" y="2584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882880" y="25462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1795320" y="3035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1919160" y="2590920"/>
            <a:ext cx="14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1774800" y="273528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2016000" y="258588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978200" y="2552760"/>
            <a:ext cx="8568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971720" y="2697120"/>
            <a:ext cx="85680" cy="79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1978200" y="2489040"/>
            <a:ext cx="92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10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4299120" y="5611680"/>
            <a:ext cx="75960" cy="216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370400" y="56102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5720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78944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50166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24196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67368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565632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585612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608976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63054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90084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4359240" y="5191200"/>
            <a:ext cx="122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4370400" y="550404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3704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506920" y="5649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996160" y="5649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473880" y="56498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5429160" y="5492880"/>
            <a:ext cx="21600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5819760" y="552600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6283440" y="551988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4370400" y="572436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7135920" y="5506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7375680" y="5510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5450040" y="50706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6531120" y="51246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7610400" y="5505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7504200" y="5950080"/>
            <a:ext cx="215640" cy="7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7504200" y="59500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7613640" y="5734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578720" y="56959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7578720" y="59119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345280" y="5043600"/>
            <a:ext cx="215640" cy="7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5345280" y="51102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5419800" y="5072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6424560" y="5043600"/>
            <a:ext cx="216000" cy="71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424560" y="5110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6499080" y="5072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411880" y="5699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496200" y="577692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960720" y="32623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684360" y="4799160"/>
            <a:ext cx="75960" cy="215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755640" y="4797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892160" y="47800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2387520" y="4730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2859120" y="4716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820880" y="465768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211480" y="4613400"/>
            <a:ext cx="215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674800" y="4586400"/>
            <a:ext cx="216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755640" y="491184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835280" y="4226040"/>
            <a:ext cx="0" cy="61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2916360" y="4226040"/>
            <a:ext cx="0" cy="203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889440" y="5137200"/>
            <a:ext cx="216000" cy="71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889440" y="51372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998880" y="49212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3963960" y="5099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730520" y="4124160"/>
            <a:ext cx="215640" cy="7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1730520" y="41911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805040" y="4152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809800" y="4124160"/>
            <a:ext cx="216000" cy="716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2809800" y="4191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884320" y="4152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797120" y="4781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916360" y="435600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 flipV="1">
            <a:off x="2916360" y="4560840"/>
            <a:ext cx="0" cy="21600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962520" y="486900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49160" y="3092400"/>
            <a:ext cx="3206880" cy="235080"/>
          </a:xfrm>
          <a:custGeom>
            <a:avLst/>
            <a:gdLst/>
            <a:ahLst/>
            <a:rect l="l" t="t" r="r" b="b"/>
            <a:pathLst>
              <a:path w="2020" h="148">
                <a:moveTo>
                  <a:pt x="0" y="129"/>
                </a:moveTo>
                <a:cubicBezTo>
                  <a:pt x="11" y="129"/>
                  <a:pt x="25" y="132"/>
                  <a:pt x="68" y="129"/>
                </a:cubicBezTo>
                <a:cubicBezTo>
                  <a:pt x="111" y="126"/>
                  <a:pt x="191" y="123"/>
                  <a:pt x="256" y="113"/>
                </a:cubicBezTo>
                <a:cubicBezTo>
                  <a:pt x="321" y="103"/>
                  <a:pt x="395" y="85"/>
                  <a:pt x="458" y="70"/>
                </a:cubicBezTo>
                <a:cubicBezTo>
                  <a:pt x="521" y="55"/>
                  <a:pt x="568" y="37"/>
                  <a:pt x="632" y="25"/>
                </a:cubicBezTo>
                <a:cubicBezTo>
                  <a:pt x="696" y="13"/>
                  <a:pt x="769" y="2"/>
                  <a:pt x="840" y="1"/>
                </a:cubicBezTo>
                <a:cubicBezTo>
                  <a:pt x="911" y="0"/>
                  <a:pt x="987" y="12"/>
                  <a:pt x="1056" y="21"/>
                </a:cubicBezTo>
                <a:cubicBezTo>
                  <a:pt x="1125" y="30"/>
                  <a:pt x="1179" y="42"/>
                  <a:pt x="1256" y="57"/>
                </a:cubicBezTo>
                <a:cubicBezTo>
                  <a:pt x="1333" y="72"/>
                  <a:pt x="1435" y="98"/>
                  <a:pt x="1520" y="113"/>
                </a:cubicBezTo>
                <a:cubicBezTo>
                  <a:pt x="1605" y="128"/>
                  <a:pt x="1685" y="142"/>
                  <a:pt x="1768" y="145"/>
                </a:cubicBezTo>
                <a:cubicBezTo>
                  <a:pt x="1851" y="148"/>
                  <a:pt x="1968" y="135"/>
                  <a:pt x="2020" y="13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2881440" y="313704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762120" y="4782960"/>
            <a:ext cx="3200400" cy="138240"/>
          </a:xfrm>
          <a:custGeom>
            <a:avLst/>
            <a:gdLst/>
            <a:ahLst/>
            <a:rect l="l" t="t" r="r" b="b"/>
            <a:pathLst>
              <a:path w="2016" h="140">
                <a:moveTo>
                  <a:pt x="0" y="130"/>
                </a:moveTo>
                <a:cubicBezTo>
                  <a:pt x="11" y="130"/>
                  <a:pt x="25" y="129"/>
                  <a:pt x="64" y="130"/>
                </a:cubicBezTo>
                <a:cubicBezTo>
                  <a:pt x="103" y="131"/>
                  <a:pt x="168" y="140"/>
                  <a:pt x="236" y="138"/>
                </a:cubicBezTo>
                <a:cubicBezTo>
                  <a:pt x="304" y="136"/>
                  <a:pt x="405" y="126"/>
                  <a:pt x="472" y="118"/>
                </a:cubicBezTo>
                <a:cubicBezTo>
                  <a:pt x="539" y="110"/>
                  <a:pt x="581" y="101"/>
                  <a:pt x="640" y="90"/>
                </a:cubicBezTo>
                <a:cubicBezTo>
                  <a:pt x="699" y="79"/>
                  <a:pt x="763" y="65"/>
                  <a:pt x="824" y="54"/>
                </a:cubicBezTo>
                <a:cubicBezTo>
                  <a:pt x="885" y="43"/>
                  <a:pt x="949" y="30"/>
                  <a:pt x="1008" y="22"/>
                </a:cubicBezTo>
                <a:cubicBezTo>
                  <a:pt x="1067" y="14"/>
                  <a:pt x="1121" y="9"/>
                  <a:pt x="1180" y="6"/>
                </a:cubicBezTo>
                <a:cubicBezTo>
                  <a:pt x="1239" y="3"/>
                  <a:pt x="1302" y="0"/>
                  <a:pt x="1364" y="2"/>
                </a:cubicBezTo>
                <a:cubicBezTo>
                  <a:pt x="1426" y="4"/>
                  <a:pt x="1480" y="8"/>
                  <a:pt x="1552" y="18"/>
                </a:cubicBezTo>
                <a:cubicBezTo>
                  <a:pt x="1624" y="28"/>
                  <a:pt x="1719" y="45"/>
                  <a:pt x="1796" y="62"/>
                </a:cubicBezTo>
                <a:cubicBezTo>
                  <a:pt x="1873" y="79"/>
                  <a:pt x="1970" y="106"/>
                  <a:pt x="2016" y="11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2855880" y="4425840"/>
            <a:ext cx="995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lang="ru-RU" sz="16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10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к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971640" y="2700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939960" y="2679840"/>
            <a:ext cx="64764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971640" y="4376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939960" y="4356000"/>
            <a:ext cx="64764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755640" y="3537000"/>
            <a:ext cx="3240000" cy="404640"/>
          </a:xfrm>
          <a:custGeom>
            <a:avLst/>
            <a:gdLst/>
            <a:ahLst/>
            <a:rect l="l" t="t" r="r" b="b"/>
            <a:pathLst>
              <a:path w="2041" h="255">
                <a:moveTo>
                  <a:pt x="0" y="119"/>
                </a:moveTo>
                <a:lnTo>
                  <a:pt x="0" y="255"/>
                </a:lnTo>
                <a:lnTo>
                  <a:pt x="680" y="0"/>
                </a:lnTo>
                <a:lnTo>
                  <a:pt x="1368" y="176"/>
                </a:lnTo>
                <a:lnTo>
                  <a:pt x="2041" y="119"/>
                </a:ln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755640" y="373212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835280" y="354024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928960" y="3726000"/>
            <a:ext cx="0" cy="8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73160" y="37400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5,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549440" y="32623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7,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2379600" y="3683160"/>
            <a:ext cx="0" cy="4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556000" y="37400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,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2189160" y="339264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,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3276720" y="3790800"/>
            <a:ext cx="822240" cy="433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301920" y="3693960"/>
            <a:ext cx="1008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762120" y="5156280"/>
            <a:ext cx="3241440" cy="288720"/>
          </a:xfrm>
          <a:custGeom>
            <a:avLst/>
            <a:gdLst/>
            <a:ahLst/>
            <a:rect l="l" t="t" r="r" b="b"/>
            <a:pathLst>
              <a:path w="2042" h="182">
                <a:moveTo>
                  <a:pt x="1" y="108"/>
                </a:moveTo>
                <a:lnTo>
                  <a:pt x="0" y="80"/>
                </a:lnTo>
                <a:lnTo>
                  <a:pt x="681" y="182"/>
                </a:lnTo>
                <a:lnTo>
                  <a:pt x="1368" y="0"/>
                </a:lnTo>
                <a:lnTo>
                  <a:pt x="2042" y="108"/>
                </a:lnTo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757080" y="533232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935440" y="515160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835280" y="5326200"/>
            <a:ext cx="0" cy="118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503280" y="5013360"/>
            <a:ext cx="6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522440" y="53848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387520" y="5295960"/>
            <a:ext cx="0" cy="4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2660760" y="4869000"/>
            <a:ext cx="6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979640" y="50115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6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3284640" y="5353200"/>
            <a:ext cx="822240" cy="433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3308400" y="5262480"/>
            <a:ext cx="1008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08080" y="5578560"/>
            <a:ext cx="1873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тр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лия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гулятор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1509840" y="5635800"/>
                <a:ext cx="181440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7,87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24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,3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,569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,1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379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8" name=""/>
          <p:cNvSpPr/>
          <p:nvPr/>
        </p:nvSpPr>
        <p:spPr>
          <a:xfrm>
            <a:off x="225360" y="6275520"/>
            <a:ext cx="4249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Эпюры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и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неподобны – регулят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i="1" lang="ru-RU" sz="1400" spc="-1" strike="noStrike">
                <a:solidFill>
                  <a:srgbClr val="333399"/>
                </a:solidFill>
                <a:latin typeface="Arial Narrow"/>
              </a:rPr>
              <a:t>независимые</a:t>
            </a:r>
            <a:r>
              <a:rPr b="1" i="1" lang="en-US" sz="14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67160" y="5716440"/>
            <a:ext cx="3219480" cy="212760"/>
          </a:xfrm>
          <a:custGeom>
            <a:avLst/>
            <a:gdLst/>
            <a:ahLst/>
            <a:rect l="l" t="t" r="r" b="b"/>
            <a:pathLst>
              <a:path w="2028" h="134">
                <a:moveTo>
                  <a:pt x="0" y="3"/>
                </a:moveTo>
                <a:cubicBezTo>
                  <a:pt x="11" y="3"/>
                  <a:pt x="37" y="0"/>
                  <a:pt x="70" y="5"/>
                </a:cubicBezTo>
                <a:cubicBezTo>
                  <a:pt x="103" y="10"/>
                  <a:pt x="152" y="27"/>
                  <a:pt x="200" y="35"/>
                </a:cubicBezTo>
                <a:cubicBezTo>
                  <a:pt x="248" y="43"/>
                  <a:pt x="309" y="52"/>
                  <a:pt x="360" y="55"/>
                </a:cubicBezTo>
                <a:cubicBezTo>
                  <a:pt x="411" y="58"/>
                  <a:pt x="457" y="53"/>
                  <a:pt x="504" y="51"/>
                </a:cubicBezTo>
                <a:cubicBezTo>
                  <a:pt x="551" y="49"/>
                  <a:pt x="593" y="42"/>
                  <a:pt x="640" y="43"/>
                </a:cubicBezTo>
                <a:cubicBezTo>
                  <a:pt x="687" y="44"/>
                  <a:pt x="739" y="50"/>
                  <a:pt x="784" y="59"/>
                </a:cubicBezTo>
                <a:cubicBezTo>
                  <a:pt x="829" y="68"/>
                  <a:pt x="870" y="88"/>
                  <a:pt x="908" y="99"/>
                </a:cubicBezTo>
                <a:cubicBezTo>
                  <a:pt x="946" y="110"/>
                  <a:pt x="973" y="122"/>
                  <a:pt x="1012" y="127"/>
                </a:cubicBezTo>
                <a:cubicBezTo>
                  <a:pt x="1051" y="132"/>
                  <a:pt x="1103" y="134"/>
                  <a:pt x="1144" y="131"/>
                </a:cubicBezTo>
                <a:cubicBezTo>
                  <a:pt x="1185" y="128"/>
                  <a:pt x="1223" y="113"/>
                  <a:pt x="1260" y="107"/>
                </a:cubicBezTo>
                <a:cubicBezTo>
                  <a:pt x="1297" y="101"/>
                  <a:pt x="1324" y="97"/>
                  <a:pt x="1364" y="95"/>
                </a:cubicBezTo>
                <a:cubicBezTo>
                  <a:pt x="1404" y="93"/>
                  <a:pt x="1447" y="92"/>
                  <a:pt x="1500" y="95"/>
                </a:cubicBezTo>
                <a:cubicBezTo>
                  <a:pt x="1553" y="98"/>
                  <a:pt x="1621" y="115"/>
                  <a:pt x="1680" y="115"/>
                </a:cubicBezTo>
                <a:cubicBezTo>
                  <a:pt x="1739" y="115"/>
                  <a:pt x="1798" y="109"/>
                  <a:pt x="1856" y="94"/>
                </a:cubicBezTo>
                <a:cubicBezTo>
                  <a:pt x="1914" y="79"/>
                  <a:pt x="1992" y="41"/>
                  <a:pt x="2028" y="2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389480" y="4788000"/>
            <a:ext cx="4070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"/>
              </a:spcBef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Расчёт системы на заданную нагрузку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813280" y="5094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761080" y="5103720"/>
            <a:ext cx="463680" cy="35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373640" y="5896080"/>
            <a:ext cx="3238560" cy="503280"/>
          </a:xfrm>
          <a:custGeom>
            <a:avLst/>
            <a:gdLst/>
            <a:ahLst/>
            <a:rect l="l" t="t" r="r" b="b"/>
            <a:pathLst>
              <a:path w="2040" h="317">
                <a:moveTo>
                  <a:pt x="0" y="214"/>
                </a:moveTo>
                <a:cubicBezTo>
                  <a:pt x="0" y="178"/>
                  <a:pt x="0" y="118"/>
                  <a:pt x="0" y="0"/>
                </a:cubicBezTo>
                <a:cubicBezTo>
                  <a:pt x="44" y="59"/>
                  <a:pt x="68" y="78"/>
                  <a:pt x="104" y="109"/>
                </a:cubicBezTo>
                <a:cubicBezTo>
                  <a:pt x="140" y="139"/>
                  <a:pt x="172" y="162"/>
                  <a:pt x="216" y="183"/>
                </a:cubicBezTo>
                <a:cubicBezTo>
                  <a:pt x="260" y="204"/>
                  <a:pt x="314" y="227"/>
                  <a:pt x="368" y="236"/>
                </a:cubicBezTo>
                <a:cubicBezTo>
                  <a:pt x="422" y="244"/>
                  <a:pt x="487" y="243"/>
                  <a:pt x="540" y="233"/>
                </a:cubicBezTo>
                <a:cubicBezTo>
                  <a:pt x="593" y="222"/>
                  <a:pt x="640" y="195"/>
                  <a:pt x="688" y="171"/>
                </a:cubicBezTo>
                <a:cubicBezTo>
                  <a:pt x="736" y="198"/>
                  <a:pt x="750" y="207"/>
                  <a:pt x="788" y="226"/>
                </a:cubicBezTo>
                <a:cubicBezTo>
                  <a:pt x="825" y="246"/>
                  <a:pt x="868" y="272"/>
                  <a:pt x="908" y="285"/>
                </a:cubicBezTo>
                <a:cubicBezTo>
                  <a:pt x="948" y="298"/>
                  <a:pt x="986" y="306"/>
                  <a:pt x="1028" y="307"/>
                </a:cubicBezTo>
                <a:cubicBezTo>
                  <a:pt x="1070" y="308"/>
                  <a:pt x="1117" y="303"/>
                  <a:pt x="1160" y="288"/>
                </a:cubicBezTo>
                <a:cubicBezTo>
                  <a:pt x="1203" y="274"/>
                  <a:pt x="1249" y="243"/>
                  <a:pt x="1284" y="220"/>
                </a:cubicBezTo>
                <a:cubicBezTo>
                  <a:pt x="1319" y="198"/>
                  <a:pt x="1324" y="189"/>
                  <a:pt x="1368" y="155"/>
                </a:cubicBezTo>
                <a:cubicBezTo>
                  <a:pt x="1412" y="192"/>
                  <a:pt x="1445" y="215"/>
                  <a:pt x="1484" y="239"/>
                </a:cubicBezTo>
                <a:cubicBezTo>
                  <a:pt x="1523" y="262"/>
                  <a:pt x="1559" y="281"/>
                  <a:pt x="1604" y="295"/>
                </a:cubicBezTo>
                <a:cubicBezTo>
                  <a:pt x="1649" y="308"/>
                  <a:pt x="1703" y="317"/>
                  <a:pt x="1752" y="316"/>
                </a:cubicBezTo>
                <a:cubicBezTo>
                  <a:pt x="1801" y="315"/>
                  <a:pt x="1852" y="309"/>
                  <a:pt x="1900" y="291"/>
                </a:cubicBezTo>
                <a:cubicBezTo>
                  <a:pt x="1948" y="273"/>
                  <a:pt x="2011" y="225"/>
                  <a:pt x="2040" y="208"/>
                </a:cubicBez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371840" y="622944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6008760" y="6230880"/>
            <a:ext cx="0" cy="1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6543720" y="6146640"/>
            <a:ext cx="0" cy="8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5464080" y="6165720"/>
            <a:ext cx="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7061040" y="6230880"/>
            <a:ext cx="0" cy="1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7540560" y="6199200"/>
            <a:ext cx="1224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7527960" y="6226200"/>
            <a:ext cx="463680" cy="365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7872480" y="5065560"/>
            <a:ext cx="10778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атри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силий 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груз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2" name=""/>
              <p:cNvSpPr txBox="1"/>
              <p:nvPr/>
            </p:nvSpPr>
            <p:spPr>
              <a:xfrm>
                <a:off x="7742160" y="5540400"/>
                <a:ext cx="1139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2,90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2,31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,48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3" name=""/>
              <p:cNvSpPr txBox="1"/>
              <p:nvPr/>
            </p:nvSpPr>
            <p:spPr>
              <a:xfrm>
                <a:off x="5842080" y="2749680"/>
                <a:ext cx="1593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i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8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4356000" y="428292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 Narrow"/>
              </a:rPr>
              <a:t>Регулято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4334040" y="3591000"/>
            <a:ext cx="6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083200" y="3722760"/>
            <a:ext cx="665280" cy="216000"/>
          </a:xfrm>
          <a:prstGeom prst="rect">
            <a:avLst/>
          </a:prstGeom>
          <a:solidFill>
            <a:srgbClr val="ffd4d1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5,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6735600" y="417816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7,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4600440" y="407664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6,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7540560" y="4048200"/>
            <a:ext cx="1352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eg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7518240" y="4094280"/>
            <a:ext cx="573120" cy="365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6178680" y="3728880"/>
            <a:ext cx="664920" cy="216000"/>
          </a:xfrm>
          <a:prstGeom prst="rect">
            <a:avLst/>
          </a:prstGeom>
          <a:solidFill>
            <a:srgbClr val="ffd4d1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5,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5705640" y="4238640"/>
            <a:ext cx="664920" cy="216000"/>
          </a:xfrm>
          <a:prstGeom prst="rect">
            <a:avLst/>
          </a:prstGeom>
          <a:solidFill>
            <a:srgbClr val="ffd4d1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5,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4371840" y="3800520"/>
            <a:ext cx="3240360" cy="444600"/>
          </a:xfrm>
          <a:custGeom>
            <a:avLst/>
            <a:gdLst/>
            <a:ahLst/>
            <a:rect l="l" t="t" r="r" b="b"/>
            <a:pathLst>
              <a:path w="2041" h="280">
                <a:moveTo>
                  <a:pt x="1" y="179"/>
                </a:moveTo>
                <a:cubicBezTo>
                  <a:pt x="1" y="149"/>
                  <a:pt x="0" y="96"/>
                  <a:pt x="0" y="0"/>
                </a:cubicBezTo>
                <a:cubicBezTo>
                  <a:pt x="69" y="69"/>
                  <a:pt x="71" y="70"/>
                  <a:pt x="108" y="99"/>
                </a:cubicBezTo>
                <a:cubicBezTo>
                  <a:pt x="145" y="128"/>
                  <a:pt x="177" y="153"/>
                  <a:pt x="222" y="174"/>
                </a:cubicBezTo>
                <a:cubicBezTo>
                  <a:pt x="267" y="195"/>
                  <a:pt x="328" y="221"/>
                  <a:pt x="381" y="225"/>
                </a:cubicBezTo>
                <a:cubicBezTo>
                  <a:pt x="434" y="229"/>
                  <a:pt x="491" y="221"/>
                  <a:pt x="541" y="198"/>
                </a:cubicBezTo>
                <a:cubicBezTo>
                  <a:pt x="591" y="175"/>
                  <a:pt x="636" y="132"/>
                  <a:pt x="684" y="84"/>
                </a:cubicBezTo>
                <a:cubicBezTo>
                  <a:pt x="729" y="120"/>
                  <a:pt x="753" y="154"/>
                  <a:pt x="792" y="180"/>
                </a:cubicBezTo>
                <a:cubicBezTo>
                  <a:pt x="830" y="207"/>
                  <a:pt x="875" y="235"/>
                  <a:pt x="915" y="249"/>
                </a:cubicBezTo>
                <a:cubicBezTo>
                  <a:pt x="955" y="263"/>
                  <a:pt x="994" y="267"/>
                  <a:pt x="1035" y="267"/>
                </a:cubicBezTo>
                <a:cubicBezTo>
                  <a:pt x="1076" y="267"/>
                  <a:pt x="1122" y="262"/>
                  <a:pt x="1164" y="246"/>
                </a:cubicBezTo>
                <a:cubicBezTo>
                  <a:pt x="1206" y="230"/>
                  <a:pt x="1255" y="195"/>
                  <a:pt x="1290" y="168"/>
                </a:cubicBezTo>
                <a:cubicBezTo>
                  <a:pt x="1325" y="141"/>
                  <a:pt x="1323" y="147"/>
                  <a:pt x="1374" y="81"/>
                </a:cubicBezTo>
                <a:cubicBezTo>
                  <a:pt x="1419" y="126"/>
                  <a:pt x="1436" y="144"/>
                  <a:pt x="1473" y="171"/>
                </a:cubicBezTo>
                <a:cubicBezTo>
                  <a:pt x="1512" y="199"/>
                  <a:pt x="1565" y="231"/>
                  <a:pt x="1611" y="249"/>
                </a:cubicBezTo>
                <a:cubicBezTo>
                  <a:pt x="1657" y="267"/>
                  <a:pt x="1702" y="278"/>
                  <a:pt x="1749" y="279"/>
                </a:cubicBezTo>
                <a:cubicBezTo>
                  <a:pt x="1796" y="280"/>
                  <a:pt x="1844" y="273"/>
                  <a:pt x="1893" y="255"/>
                </a:cubicBezTo>
                <a:cubicBezTo>
                  <a:pt x="1942" y="237"/>
                  <a:pt x="2010" y="190"/>
                  <a:pt x="2041" y="173"/>
                </a:cubicBezTo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4371840" y="407844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4406760" y="3241800"/>
            <a:ext cx="44863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Усилия (моменты) в отрегулирова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стеме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reg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 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5459400" y="393372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008760" y="4071960"/>
            <a:ext cx="0" cy="1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6554880" y="392760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7061040" y="4081320"/>
            <a:ext cx="0" cy="15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937040" y="4076640"/>
            <a:ext cx="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346640" y="5734080"/>
            <a:ext cx="80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4,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076720" y="588024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2,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6159600" y="5857920"/>
            <a:ext cx="6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2,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6735600" y="632952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3,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692680" y="6315120"/>
            <a:ext cx="6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2,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4581360" y="62229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,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356000" y="4473720"/>
            <a:ext cx="4608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956 c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(укорочение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 к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астяж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7159680" y="2265480"/>
                <a:ext cx="14428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1" name=""/>
          <p:cNvSpPr/>
          <p:nvPr/>
        </p:nvSpPr>
        <p:spPr>
          <a:xfrm>
            <a:off x="7427880" y="3035160"/>
            <a:ext cx="1460520" cy="270000"/>
          </a:xfrm>
          <a:prstGeom prst="rect">
            <a:avLst/>
          </a:prstGeom>
          <a:solidFill>
            <a:srgbClr val="c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0" dur="indefinite" restart="never" nodeType="tmRoot">
          <p:childTnLst>
            <p:seq>
              <p:cTn id="5001" dur="indefinite" nodeType="mainSeq">
                <p:childTnLst>
                  <p:par>
                    <p:cTn id="5002" fill="hold">
                      <p:stCondLst>
                        <p:cond delay="0"/>
                      </p:stCondLst>
                      <p:childTnLst>
                        <p:par>
                          <p:cTn id="5003" fill="hold">
                            <p:stCondLst>
                              <p:cond delay="0"/>
                            </p:stCondLst>
                            <p:childTnLst>
                              <p:par>
                                <p:cTn id="50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6" dur="80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7" dur="80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8" dur="80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9" fill="hold">
                      <p:stCondLst>
                        <p:cond delay="indefinite"/>
                      </p:stCondLst>
                      <p:childTnLst>
                        <p:par>
                          <p:cTn id="5010" fill="hold">
                            <p:stCondLst>
                              <p:cond delay="0"/>
                            </p:stCondLst>
                            <p:childTnLst>
                              <p:par>
                                <p:cTn id="50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3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4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5" dur="10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8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9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0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4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8" dur="1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9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0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3" dur="1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4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5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8" dur="1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9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0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3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4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5" dur="10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8" dur="1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9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0" dur="1000" fill="hold"/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3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4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5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8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9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0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3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4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5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8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9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0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3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4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5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8" dur="10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9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0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3" dur="10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4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5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ctr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 к  слайду  17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 Что такое регулирование напряжённо-деформированного состояния (НДС) сооруж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я (конструкции)?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5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 Что называется регулируемыми параметрами и регуляторами?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( 5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 Критерий и условия (уравнения) регулирования; каковы взаимосвязь и различ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жду ними?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5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 Основные виды регулируемых параметров, регуляторов и критериев регулиров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я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6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 Какие регуляторы не могут быть использованы для изменения усилий в статичес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имых системах?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6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 По каким признакам классифицируются задачи регулирования НДС конструкций?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6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 Как проверяется корректность постановки задачи регулирования?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10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 Каким условиям должны удовлетворять количества регуляторов и регулируем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раметров?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10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.  Какие требования предъявляются к регуляторам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( 10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. Каковы признаки независимости регуляторов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( 10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Каким может получит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шение задачи при использовании зависимых регуляторов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1. Как формируется система уравнений для определения искомых значений регулятор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линейных задачах регулирования?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8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2. Что такое функции влияния и матрица влияния регуляторов?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7, 8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3. Каков смысл компонентов матрицы влияния регуляторов?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8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4. Какие расчёты системы, в которой осуществляется регулирование усилий, нуж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полнить для получения данных, с помощью которых формируются 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гулирования (в линейных задачах)?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1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. Как определяются силовые факторы в системе, получающиеся в результа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гулирования? 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( 9 )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395280" y="62834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13652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352520"/>
            <a:ext cx="28908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13525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1568520"/>
            <a:ext cx="324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14256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14256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14256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14256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70200" y="1352520"/>
            <a:ext cx="21564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0200" y="13525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1280" y="1352520"/>
            <a:ext cx="21564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51280" y="13525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0560" y="1352520"/>
            <a:ext cx="216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0560" y="1352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1136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1136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1136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1136520"/>
            <a:ext cx="716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828720" y="1136520"/>
            <a:ext cx="71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3800" y="1314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38160" y="1314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40040" y="13096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24360" y="131436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05440" y="131436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3200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4764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708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308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2908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472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6072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1840" y="11080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0040" y="10936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24360" y="109872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05440" y="109872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92088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87360" y="60804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864720" y="1528920"/>
            <a:ext cx="73080" cy="72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106520" y="153504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20760" y="153504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44360" y="153036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25520" y="131760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06600" y="131904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79760" y="132084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2073240"/>
            <a:ext cx="1079640" cy="297000"/>
          </a:xfrm>
          <a:custGeom>
            <a:avLst/>
            <a:gdLst/>
            <a:ahLst/>
            <a:rect l="l" t="t" r="r" b="b"/>
            <a:pathLst>
              <a:path w="680" h="187">
                <a:moveTo>
                  <a:pt x="0" y="0"/>
                </a:moveTo>
                <a:cubicBezTo>
                  <a:pt x="20" y="18"/>
                  <a:pt x="81" y="78"/>
                  <a:pt x="121" y="106"/>
                </a:cubicBezTo>
                <a:cubicBezTo>
                  <a:pt x="161" y="134"/>
                  <a:pt x="204" y="157"/>
                  <a:pt x="241" y="170"/>
                </a:cubicBezTo>
                <a:cubicBezTo>
                  <a:pt x="278" y="183"/>
                  <a:pt x="308" y="187"/>
                  <a:pt x="345" y="186"/>
                </a:cubicBezTo>
                <a:cubicBezTo>
                  <a:pt x="382" y="185"/>
                  <a:pt x="424" y="180"/>
                  <a:pt x="461" y="166"/>
                </a:cubicBezTo>
                <a:cubicBezTo>
                  <a:pt x="498" y="152"/>
                  <a:pt x="533" y="130"/>
                  <a:pt x="569" y="102"/>
                </a:cubicBezTo>
                <a:cubicBezTo>
                  <a:pt x="605" y="74"/>
                  <a:pt x="657" y="21"/>
                  <a:pt x="680" y="0"/>
                </a:cubicBez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2073240"/>
            <a:ext cx="1079640" cy="297000"/>
          </a:xfrm>
          <a:custGeom>
            <a:avLst/>
            <a:gdLst/>
            <a:ahLst/>
            <a:rect l="l" t="t" r="r" b="b"/>
            <a:pathLst>
              <a:path w="680" h="187">
                <a:moveTo>
                  <a:pt x="0" y="0"/>
                </a:moveTo>
                <a:cubicBezTo>
                  <a:pt x="20" y="18"/>
                  <a:pt x="81" y="78"/>
                  <a:pt x="121" y="106"/>
                </a:cubicBezTo>
                <a:cubicBezTo>
                  <a:pt x="161" y="134"/>
                  <a:pt x="204" y="157"/>
                  <a:pt x="241" y="170"/>
                </a:cubicBezTo>
                <a:cubicBezTo>
                  <a:pt x="278" y="183"/>
                  <a:pt x="308" y="187"/>
                  <a:pt x="345" y="186"/>
                </a:cubicBezTo>
                <a:cubicBezTo>
                  <a:pt x="382" y="185"/>
                  <a:pt x="424" y="180"/>
                  <a:pt x="461" y="166"/>
                </a:cubicBezTo>
                <a:cubicBezTo>
                  <a:pt x="498" y="152"/>
                  <a:pt x="533" y="130"/>
                  <a:pt x="569" y="102"/>
                </a:cubicBezTo>
                <a:cubicBezTo>
                  <a:pt x="605" y="74"/>
                  <a:pt x="657" y="21"/>
                  <a:pt x="680" y="0"/>
                </a:cubicBez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60720" y="2073240"/>
            <a:ext cx="1079640" cy="297000"/>
          </a:xfrm>
          <a:custGeom>
            <a:avLst/>
            <a:gdLst/>
            <a:ahLst/>
            <a:rect l="l" t="t" r="r" b="b"/>
            <a:pathLst>
              <a:path w="680" h="187">
                <a:moveTo>
                  <a:pt x="0" y="0"/>
                </a:moveTo>
                <a:cubicBezTo>
                  <a:pt x="20" y="18"/>
                  <a:pt x="81" y="78"/>
                  <a:pt x="121" y="106"/>
                </a:cubicBezTo>
                <a:cubicBezTo>
                  <a:pt x="161" y="134"/>
                  <a:pt x="204" y="157"/>
                  <a:pt x="241" y="170"/>
                </a:cubicBezTo>
                <a:cubicBezTo>
                  <a:pt x="278" y="183"/>
                  <a:pt x="308" y="187"/>
                  <a:pt x="345" y="186"/>
                </a:cubicBezTo>
                <a:cubicBezTo>
                  <a:pt x="382" y="185"/>
                  <a:pt x="424" y="180"/>
                  <a:pt x="461" y="166"/>
                </a:cubicBezTo>
                <a:cubicBezTo>
                  <a:pt x="498" y="152"/>
                  <a:pt x="533" y="130"/>
                  <a:pt x="569" y="102"/>
                </a:cubicBezTo>
                <a:cubicBezTo>
                  <a:pt x="605" y="74"/>
                  <a:pt x="657" y="21"/>
                  <a:pt x="680" y="0"/>
                </a:cubicBez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073240"/>
            <a:ext cx="1079640" cy="297000"/>
          </a:xfrm>
          <a:custGeom>
            <a:avLst/>
            <a:gdLst/>
            <a:ahLst/>
            <a:rect l="l" t="t" r="r" b="b"/>
            <a:pathLst>
              <a:path w="680" h="187">
                <a:moveTo>
                  <a:pt x="0" y="0"/>
                </a:moveTo>
                <a:cubicBezTo>
                  <a:pt x="20" y="18"/>
                  <a:pt x="81" y="78"/>
                  <a:pt x="121" y="106"/>
                </a:cubicBezTo>
                <a:cubicBezTo>
                  <a:pt x="161" y="134"/>
                  <a:pt x="204" y="157"/>
                  <a:pt x="241" y="170"/>
                </a:cubicBezTo>
                <a:cubicBezTo>
                  <a:pt x="278" y="183"/>
                  <a:pt x="308" y="187"/>
                  <a:pt x="345" y="186"/>
                </a:cubicBezTo>
                <a:cubicBezTo>
                  <a:pt x="382" y="185"/>
                  <a:pt x="424" y="180"/>
                  <a:pt x="461" y="166"/>
                </a:cubicBezTo>
                <a:cubicBezTo>
                  <a:pt x="498" y="152"/>
                  <a:pt x="533" y="130"/>
                  <a:pt x="569" y="102"/>
                </a:cubicBezTo>
                <a:cubicBezTo>
                  <a:pt x="605" y="74"/>
                  <a:pt x="657" y="21"/>
                  <a:pt x="68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073240"/>
            <a:ext cx="1079640" cy="297000"/>
          </a:xfrm>
          <a:custGeom>
            <a:avLst/>
            <a:gdLst/>
            <a:ahLst/>
            <a:rect l="l" t="t" r="r" b="b"/>
            <a:pathLst>
              <a:path w="680" h="187">
                <a:moveTo>
                  <a:pt x="0" y="0"/>
                </a:moveTo>
                <a:cubicBezTo>
                  <a:pt x="20" y="18"/>
                  <a:pt x="81" y="78"/>
                  <a:pt x="121" y="106"/>
                </a:cubicBezTo>
                <a:cubicBezTo>
                  <a:pt x="161" y="134"/>
                  <a:pt x="204" y="157"/>
                  <a:pt x="241" y="170"/>
                </a:cubicBezTo>
                <a:cubicBezTo>
                  <a:pt x="278" y="183"/>
                  <a:pt x="308" y="187"/>
                  <a:pt x="345" y="186"/>
                </a:cubicBezTo>
                <a:cubicBezTo>
                  <a:pt x="382" y="185"/>
                  <a:pt x="424" y="180"/>
                  <a:pt x="461" y="166"/>
                </a:cubicBezTo>
                <a:cubicBezTo>
                  <a:pt x="498" y="152"/>
                  <a:pt x="533" y="130"/>
                  <a:pt x="569" y="102"/>
                </a:cubicBezTo>
                <a:cubicBezTo>
                  <a:pt x="605" y="74"/>
                  <a:pt x="657" y="21"/>
                  <a:pt x="68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2073240"/>
            <a:ext cx="1079640" cy="297000"/>
          </a:xfrm>
          <a:custGeom>
            <a:avLst/>
            <a:gdLst/>
            <a:ahLst/>
            <a:rect l="l" t="t" r="r" b="b"/>
            <a:pathLst>
              <a:path w="680" h="187">
                <a:moveTo>
                  <a:pt x="0" y="0"/>
                </a:moveTo>
                <a:cubicBezTo>
                  <a:pt x="20" y="18"/>
                  <a:pt x="81" y="78"/>
                  <a:pt x="121" y="106"/>
                </a:cubicBezTo>
                <a:cubicBezTo>
                  <a:pt x="161" y="134"/>
                  <a:pt x="204" y="157"/>
                  <a:pt x="241" y="170"/>
                </a:cubicBezTo>
                <a:cubicBezTo>
                  <a:pt x="278" y="183"/>
                  <a:pt x="308" y="187"/>
                  <a:pt x="345" y="186"/>
                </a:cubicBezTo>
                <a:cubicBezTo>
                  <a:pt x="382" y="185"/>
                  <a:pt x="424" y="180"/>
                  <a:pt x="461" y="166"/>
                </a:cubicBezTo>
                <a:cubicBezTo>
                  <a:pt x="498" y="152"/>
                  <a:pt x="533" y="130"/>
                  <a:pt x="569" y="102"/>
                </a:cubicBezTo>
                <a:cubicBezTo>
                  <a:pt x="605" y="74"/>
                  <a:pt x="657" y="21"/>
                  <a:pt x="68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30480" y="10969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9400" y="1100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1908000"/>
            <a:ext cx="3240360" cy="363600"/>
          </a:xfrm>
          <a:custGeom>
            <a:avLst/>
            <a:gdLst/>
            <a:ahLst/>
            <a:rect l="l" t="t" r="r" b="b"/>
            <a:pathLst>
              <a:path w="2041" h="229">
                <a:moveTo>
                  <a:pt x="0" y="104"/>
                </a:moveTo>
                <a:cubicBezTo>
                  <a:pt x="25" y="118"/>
                  <a:pt x="99" y="169"/>
                  <a:pt x="149" y="188"/>
                </a:cubicBezTo>
                <a:cubicBezTo>
                  <a:pt x="199" y="207"/>
                  <a:pt x="250" y="220"/>
                  <a:pt x="301" y="220"/>
                </a:cubicBezTo>
                <a:cubicBezTo>
                  <a:pt x="352" y="220"/>
                  <a:pt x="408" y="208"/>
                  <a:pt x="453" y="188"/>
                </a:cubicBezTo>
                <a:cubicBezTo>
                  <a:pt x="498" y="168"/>
                  <a:pt x="535" y="131"/>
                  <a:pt x="573" y="100"/>
                </a:cubicBezTo>
                <a:cubicBezTo>
                  <a:pt x="611" y="69"/>
                  <a:pt x="621" y="52"/>
                  <a:pt x="681" y="0"/>
                </a:cubicBezTo>
                <a:cubicBezTo>
                  <a:pt x="737" y="56"/>
                  <a:pt x="759" y="71"/>
                  <a:pt x="797" y="100"/>
                </a:cubicBezTo>
                <a:cubicBezTo>
                  <a:pt x="835" y="129"/>
                  <a:pt x="870" y="157"/>
                  <a:pt x="909" y="172"/>
                </a:cubicBezTo>
                <a:cubicBezTo>
                  <a:pt x="948" y="187"/>
                  <a:pt x="989" y="192"/>
                  <a:pt x="1029" y="192"/>
                </a:cubicBezTo>
                <a:cubicBezTo>
                  <a:pt x="1069" y="192"/>
                  <a:pt x="1111" y="187"/>
                  <a:pt x="1149" y="172"/>
                </a:cubicBezTo>
                <a:cubicBezTo>
                  <a:pt x="1187" y="157"/>
                  <a:pt x="1222" y="129"/>
                  <a:pt x="1257" y="100"/>
                </a:cubicBezTo>
                <a:cubicBezTo>
                  <a:pt x="1292" y="71"/>
                  <a:pt x="1309" y="52"/>
                  <a:pt x="1361" y="0"/>
                </a:cubicBezTo>
                <a:cubicBezTo>
                  <a:pt x="1409" y="44"/>
                  <a:pt x="1429" y="67"/>
                  <a:pt x="1469" y="100"/>
                </a:cubicBezTo>
                <a:cubicBezTo>
                  <a:pt x="1509" y="133"/>
                  <a:pt x="1553" y="175"/>
                  <a:pt x="1601" y="196"/>
                </a:cubicBezTo>
                <a:cubicBezTo>
                  <a:pt x="1649" y="217"/>
                  <a:pt x="1707" y="229"/>
                  <a:pt x="1757" y="228"/>
                </a:cubicBezTo>
                <a:cubicBezTo>
                  <a:pt x="1807" y="227"/>
                  <a:pt x="1854" y="209"/>
                  <a:pt x="1901" y="188"/>
                </a:cubicBezTo>
                <a:cubicBezTo>
                  <a:pt x="1948" y="167"/>
                  <a:pt x="2012" y="121"/>
                  <a:pt x="2041" y="104"/>
                </a:cubicBez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207324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70080" y="162252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4320" y="164160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3520"/>
            <a:ext cx="8640720" cy="55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Book Antiqua"/>
              </a:rPr>
              <a:t>Возможности воздействия на усилия и перемещения в конструк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40040" y="11462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27240" y="1152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15880" y="2376360"/>
            <a:ext cx="288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79880" y="207324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1903320"/>
            <a:ext cx="107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40080" y="2066760"/>
            <a:ext cx="0" cy="30672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30440" y="1897200"/>
            <a:ext cx="0" cy="3063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9040" y="2041560"/>
            <a:ext cx="6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54240" y="1576440"/>
            <a:ext cx="6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94000" y="1860480"/>
            <a:ext cx="139680" cy="165240"/>
          </a:xfrm>
          <a:custGeom>
            <a:avLst/>
            <a:gdLst/>
            <a:ahLst/>
            <a:rect l="l" t="t" r="r" b="b"/>
            <a:pathLst>
              <a:path w="88" h="104">
                <a:moveTo>
                  <a:pt x="0" y="0"/>
                </a:moveTo>
                <a:cubicBezTo>
                  <a:pt x="5" y="12"/>
                  <a:pt x="21" y="55"/>
                  <a:pt x="36" y="72"/>
                </a:cubicBezTo>
                <a:cubicBezTo>
                  <a:pt x="51" y="89"/>
                  <a:pt x="77" y="97"/>
                  <a:pt x="88" y="10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7120" y="1628640"/>
            <a:ext cx="0" cy="4320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35320" y="1628640"/>
            <a:ext cx="0" cy="4320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109872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97160" y="1100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148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cc"/>
                </a:solidFill>
                <a:latin typeface="Arial Black"/>
              </a:rPr>
              <a:t>Железнодорожный мост Н.А. Белелюбского</a:t>
            </a:r>
            <a:br>
              <a:rPr sz="2600"/>
            </a:br>
            <a:r>
              <a:rPr b="0" lang="ru-RU" sz="2600" spc="-1" strike="noStrike">
                <a:solidFill>
                  <a:srgbClr val="3333cc"/>
                </a:solidFill>
                <a:latin typeface="Arial Black"/>
              </a:rPr>
              <a:t>через реку Обь </a:t>
            </a:r>
            <a:br>
              <a:rPr sz="2600"/>
            </a:br>
            <a:r>
              <a:rPr b="0" lang="ru-RU" sz="2600" spc="-1" strike="noStrike">
                <a:solidFill>
                  <a:srgbClr val="3333cc"/>
                </a:solidFill>
                <a:latin typeface="Arial Black"/>
              </a:rPr>
              <a:t>в г. Новониколаевске (Новосибирск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5840" y="1960560"/>
            <a:ext cx="8550360" cy="4348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98360" y="189000"/>
            <a:ext cx="8713800" cy="648000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136520"/>
            <a:ext cx="324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1352520"/>
            <a:ext cx="28908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3525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1568520"/>
            <a:ext cx="3240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14256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40360" y="14256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14256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14256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70200" y="1352520"/>
            <a:ext cx="21564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0200" y="13525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1280" y="1352520"/>
            <a:ext cx="21564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51280" y="13525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0560" y="1352520"/>
            <a:ext cx="21600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0560" y="13525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1136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1136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1136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136520"/>
            <a:ext cx="716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28720" y="1136520"/>
            <a:ext cx="71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3800" y="1314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38160" y="1314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40040" y="13096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24360" y="131436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05440" y="131436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4764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708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308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908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072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2436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920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61840" y="11080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40040" y="10936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24360" y="109872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05440" y="1098720"/>
            <a:ext cx="7272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92088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87360" y="60804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64720" y="1528920"/>
            <a:ext cx="73080" cy="72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06520" y="153504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020760" y="153504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944360" y="153036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25520" y="131760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06600" y="131904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79760" y="132084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2073240"/>
            <a:ext cx="1079640" cy="297000"/>
          </a:xfrm>
          <a:custGeom>
            <a:avLst/>
            <a:gdLst/>
            <a:ahLst/>
            <a:rect l="l" t="t" r="r" b="b"/>
            <a:pathLst>
              <a:path w="680" h="187">
                <a:moveTo>
                  <a:pt x="0" y="0"/>
                </a:moveTo>
                <a:cubicBezTo>
                  <a:pt x="20" y="18"/>
                  <a:pt x="81" y="78"/>
                  <a:pt x="121" y="106"/>
                </a:cubicBezTo>
                <a:cubicBezTo>
                  <a:pt x="161" y="134"/>
                  <a:pt x="204" y="157"/>
                  <a:pt x="241" y="170"/>
                </a:cubicBezTo>
                <a:cubicBezTo>
                  <a:pt x="278" y="183"/>
                  <a:pt x="308" y="187"/>
                  <a:pt x="345" y="186"/>
                </a:cubicBezTo>
                <a:cubicBezTo>
                  <a:pt x="382" y="185"/>
                  <a:pt x="424" y="180"/>
                  <a:pt x="461" y="166"/>
                </a:cubicBezTo>
                <a:cubicBezTo>
                  <a:pt x="498" y="152"/>
                  <a:pt x="533" y="130"/>
                  <a:pt x="569" y="102"/>
                </a:cubicBezTo>
                <a:cubicBezTo>
                  <a:pt x="605" y="74"/>
                  <a:pt x="657" y="21"/>
                  <a:pt x="680" y="0"/>
                </a:cubicBez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79640" y="2073240"/>
            <a:ext cx="1079640" cy="297000"/>
          </a:xfrm>
          <a:custGeom>
            <a:avLst/>
            <a:gdLst/>
            <a:ahLst/>
            <a:rect l="l" t="t" r="r" b="b"/>
            <a:pathLst>
              <a:path w="680" h="187">
                <a:moveTo>
                  <a:pt x="0" y="0"/>
                </a:moveTo>
                <a:cubicBezTo>
                  <a:pt x="20" y="18"/>
                  <a:pt x="81" y="78"/>
                  <a:pt x="121" y="106"/>
                </a:cubicBezTo>
                <a:cubicBezTo>
                  <a:pt x="161" y="134"/>
                  <a:pt x="204" y="157"/>
                  <a:pt x="241" y="170"/>
                </a:cubicBezTo>
                <a:cubicBezTo>
                  <a:pt x="278" y="183"/>
                  <a:pt x="308" y="187"/>
                  <a:pt x="345" y="186"/>
                </a:cubicBezTo>
                <a:cubicBezTo>
                  <a:pt x="382" y="185"/>
                  <a:pt x="424" y="180"/>
                  <a:pt x="461" y="166"/>
                </a:cubicBezTo>
                <a:cubicBezTo>
                  <a:pt x="498" y="152"/>
                  <a:pt x="533" y="130"/>
                  <a:pt x="569" y="102"/>
                </a:cubicBezTo>
                <a:cubicBezTo>
                  <a:pt x="605" y="74"/>
                  <a:pt x="657" y="21"/>
                  <a:pt x="680" y="0"/>
                </a:cubicBez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60720" y="2073240"/>
            <a:ext cx="1079640" cy="297000"/>
          </a:xfrm>
          <a:custGeom>
            <a:avLst/>
            <a:gdLst/>
            <a:ahLst/>
            <a:rect l="l" t="t" r="r" b="b"/>
            <a:pathLst>
              <a:path w="680" h="187">
                <a:moveTo>
                  <a:pt x="0" y="0"/>
                </a:moveTo>
                <a:cubicBezTo>
                  <a:pt x="20" y="18"/>
                  <a:pt x="81" y="78"/>
                  <a:pt x="121" y="106"/>
                </a:cubicBezTo>
                <a:cubicBezTo>
                  <a:pt x="161" y="134"/>
                  <a:pt x="204" y="157"/>
                  <a:pt x="241" y="170"/>
                </a:cubicBezTo>
                <a:cubicBezTo>
                  <a:pt x="278" y="183"/>
                  <a:pt x="308" y="187"/>
                  <a:pt x="345" y="186"/>
                </a:cubicBezTo>
                <a:cubicBezTo>
                  <a:pt x="382" y="185"/>
                  <a:pt x="424" y="180"/>
                  <a:pt x="461" y="166"/>
                </a:cubicBezTo>
                <a:cubicBezTo>
                  <a:pt x="498" y="152"/>
                  <a:pt x="533" y="130"/>
                  <a:pt x="569" y="102"/>
                </a:cubicBezTo>
                <a:cubicBezTo>
                  <a:pt x="605" y="74"/>
                  <a:pt x="657" y="21"/>
                  <a:pt x="680" y="0"/>
                </a:cubicBez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2073240"/>
            <a:ext cx="1079640" cy="297000"/>
          </a:xfrm>
          <a:custGeom>
            <a:avLst/>
            <a:gdLst/>
            <a:ahLst/>
            <a:rect l="l" t="t" r="r" b="b"/>
            <a:pathLst>
              <a:path w="680" h="187">
                <a:moveTo>
                  <a:pt x="0" y="0"/>
                </a:moveTo>
                <a:cubicBezTo>
                  <a:pt x="20" y="18"/>
                  <a:pt x="81" y="78"/>
                  <a:pt x="121" y="106"/>
                </a:cubicBezTo>
                <a:cubicBezTo>
                  <a:pt x="161" y="134"/>
                  <a:pt x="204" y="157"/>
                  <a:pt x="241" y="170"/>
                </a:cubicBezTo>
                <a:cubicBezTo>
                  <a:pt x="278" y="183"/>
                  <a:pt x="308" y="187"/>
                  <a:pt x="345" y="186"/>
                </a:cubicBezTo>
                <a:cubicBezTo>
                  <a:pt x="382" y="185"/>
                  <a:pt x="424" y="180"/>
                  <a:pt x="461" y="166"/>
                </a:cubicBezTo>
                <a:cubicBezTo>
                  <a:pt x="498" y="152"/>
                  <a:pt x="533" y="130"/>
                  <a:pt x="569" y="102"/>
                </a:cubicBezTo>
                <a:cubicBezTo>
                  <a:pt x="605" y="74"/>
                  <a:pt x="657" y="21"/>
                  <a:pt x="68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2073240"/>
            <a:ext cx="1079640" cy="297000"/>
          </a:xfrm>
          <a:custGeom>
            <a:avLst/>
            <a:gdLst/>
            <a:ahLst/>
            <a:rect l="l" t="t" r="r" b="b"/>
            <a:pathLst>
              <a:path w="680" h="187">
                <a:moveTo>
                  <a:pt x="0" y="0"/>
                </a:moveTo>
                <a:cubicBezTo>
                  <a:pt x="20" y="18"/>
                  <a:pt x="81" y="78"/>
                  <a:pt x="121" y="106"/>
                </a:cubicBezTo>
                <a:cubicBezTo>
                  <a:pt x="161" y="134"/>
                  <a:pt x="204" y="157"/>
                  <a:pt x="241" y="170"/>
                </a:cubicBezTo>
                <a:cubicBezTo>
                  <a:pt x="278" y="183"/>
                  <a:pt x="308" y="187"/>
                  <a:pt x="345" y="186"/>
                </a:cubicBezTo>
                <a:cubicBezTo>
                  <a:pt x="382" y="185"/>
                  <a:pt x="424" y="180"/>
                  <a:pt x="461" y="166"/>
                </a:cubicBezTo>
                <a:cubicBezTo>
                  <a:pt x="498" y="152"/>
                  <a:pt x="533" y="130"/>
                  <a:pt x="569" y="102"/>
                </a:cubicBezTo>
                <a:cubicBezTo>
                  <a:pt x="605" y="74"/>
                  <a:pt x="657" y="21"/>
                  <a:pt x="68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60720" y="2073240"/>
            <a:ext cx="1079640" cy="297000"/>
          </a:xfrm>
          <a:custGeom>
            <a:avLst/>
            <a:gdLst/>
            <a:ahLst/>
            <a:rect l="l" t="t" r="r" b="b"/>
            <a:pathLst>
              <a:path w="680" h="187">
                <a:moveTo>
                  <a:pt x="0" y="0"/>
                </a:moveTo>
                <a:cubicBezTo>
                  <a:pt x="20" y="18"/>
                  <a:pt x="81" y="78"/>
                  <a:pt x="121" y="106"/>
                </a:cubicBezTo>
                <a:cubicBezTo>
                  <a:pt x="161" y="134"/>
                  <a:pt x="204" y="157"/>
                  <a:pt x="241" y="170"/>
                </a:cubicBezTo>
                <a:cubicBezTo>
                  <a:pt x="278" y="183"/>
                  <a:pt x="308" y="187"/>
                  <a:pt x="345" y="186"/>
                </a:cubicBezTo>
                <a:cubicBezTo>
                  <a:pt x="382" y="185"/>
                  <a:pt x="424" y="180"/>
                  <a:pt x="461" y="166"/>
                </a:cubicBezTo>
                <a:cubicBezTo>
                  <a:pt x="498" y="152"/>
                  <a:pt x="533" y="130"/>
                  <a:pt x="569" y="102"/>
                </a:cubicBezTo>
                <a:cubicBezTo>
                  <a:pt x="605" y="74"/>
                  <a:pt x="657" y="21"/>
                  <a:pt x="68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0480" y="10969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9400" y="1100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1908000"/>
            <a:ext cx="3240360" cy="363600"/>
          </a:xfrm>
          <a:custGeom>
            <a:avLst/>
            <a:gdLst/>
            <a:ahLst/>
            <a:rect l="l" t="t" r="r" b="b"/>
            <a:pathLst>
              <a:path w="2041" h="229">
                <a:moveTo>
                  <a:pt x="0" y="104"/>
                </a:moveTo>
                <a:cubicBezTo>
                  <a:pt x="25" y="118"/>
                  <a:pt x="99" y="169"/>
                  <a:pt x="149" y="188"/>
                </a:cubicBezTo>
                <a:cubicBezTo>
                  <a:pt x="199" y="207"/>
                  <a:pt x="250" y="220"/>
                  <a:pt x="301" y="220"/>
                </a:cubicBezTo>
                <a:cubicBezTo>
                  <a:pt x="352" y="220"/>
                  <a:pt x="408" y="208"/>
                  <a:pt x="453" y="188"/>
                </a:cubicBezTo>
                <a:cubicBezTo>
                  <a:pt x="498" y="168"/>
                  <a:pt x="535" y="131"/>
                  <a:pt x="573" y="100"/>
                </a:cubicBezTo>
                <a:cubicBezTo>
                  <a:pt x="611" y="69"/>
                  <a:pt x="621" y="52"/>
                  <a:pt x="681" y="0"/>
                </a:cubicBezTo>
                <a:cubicBezTo>
                  <a:pt x="737" y="56"/>
                  <a:pt x="759" y="71"/>
                  <a:pt x="797" y="100"/>
                </a:cubicBezTo>
                <a:cubicBezTo>
                  <a:pt x="835" y="129"/>
                  <a:pt x="870" y="157"/>
                  <a:pt x="909" y="172"/>
                </a:cubicBezTo>
                <a:cubicBezTo>
                  <a:pt x="948" y="187"/>
                  <a:pt x="989" y="192"/>
                  <a:pt x="1029" y="192"/>
                </a:cubicBezTo>
                <a:cubicBezTo>
                  <a:pt x="1069" y="192"/>
                  <a:pt x="1111" y="187"/>
                  <a:pt x="1149" y="172"/>
                </a:cubicBezTo>
                <a:cubicBezTo>
                  <a:pt x="1187" y="157"/>
                  <a:pt x="1222" y="129"/>
                  <a:pt x="1257" y="100"/>
                </a:cubicBezTo>
                <a:cubicBezTo>
                  <a:pt x="1292" y="71"/>
                  <a:pt x="1309" y="52"/>
                  <a:pt x="1361" y="0"/>
                </a:cubicBezTo>
                <a:cubicBezTo>
                  <a:pt x="1409" y="44"/>
                  <a:pt x="1429" y="67"/>
                  <a:pt x="1469" y="100"/>
                </a:cubicBezTo>
                <a:cubicBezTo>
                  <a:pt x="1509" y="133"/>
                  <a:pt x="1553" y="175"/>
                  <a:pt x="1601" y="196"/>
                </a:cubicBezTo>
                <a:cubicBezTo>
                  <a:pt x="1649" y="217"/>
                  <a:pt x="1707" y="229"/>
                  <a:pt x="1757" y="228"/>
                </a:cubicBezTo>
                <a:cubicBezTo>
                  <a:pt x="1807" y="227"/>
                  <a:pt x="1854" y="209"/>
                  <a:pt x="1901" y="188"/>
                </a:cubicBezTo>
                <a:cubicBezTo>
                  <a:pt x="1948" y="167"/>
                  <a:pt x="2012" y="121"/>
                  <a:pt x="2041" y="104"/>
                </a:cubicBez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2073240"/>
            <a:ext cx="324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70080" y="162252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84320" y="164160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263520"/>
            <a:ext cx="8640720" cy="55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Book Antiqua"/>
              </a:rPr>
              <a:t>Возможности воздействия на усилия и перемещения в конструк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0040" y="11462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27240" y="11523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15880" y="2376360"/>
            <a:ext cx="288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79880" y="207324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79640" y="1903320"/>
            <a:ext cx="107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0080" y="2066760"/>
            <a:ext cx="0" cy="30672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30440" y="1897200"/>
            <a:ext cx="0" cy="3063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99040" y="2041560"/>
            <a:ext cx="6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54240" y="1576440"/>
            <a:ext cx="6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94000" y="1860480"/>
            <a:ext cx="139680" cy="165240"/>
          </a:xfrm>
          <a:custGeom>
            <a:avLst/>
            <a:gdLst/>
            <a:ahLst/>
            <a:rect l="l" t="t" r="r" b="b"/>
            <a:pathLst>
              <a:path w="88" h="104">
                <a:moveTo>
                  <a:pt x="0" y="0"/>
                </a:moveTo>
                <a:cubicBezTo>
                  <a:pt x="5" y="12"/>
                  <a:pt x="21" y="55"/>
                  <a:pt x="36" y="72"/>
                </a:cubicBezTo>
                <a:cubicBezTo>
                  <a:pt x="51" y="89"/>
                  <a:pt x="77" y="97"/>
                  <a:pt x="88" y="10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7120" y="1628640"/>
            <a:ext cx="0" cy="4320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35320" y="1628640"/>
            <a:ext cx="0" cy="4320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63640" y="109872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97160" y="1100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31748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00240" y="3382920"/>
            <a:ext cx="288720" cy="7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0240" y="3382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44600" y="3166920"/>
            <a:ext cx="71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273320" y="3166920"/>
            <a:ext cx="71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38400" y="334476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82760" y="33447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06440" y="3138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95760" y="3392640"/>
            <a:ext cx="216000" cy="71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95760" y="33926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5200" y="3176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70280" y="3354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70280" y="3138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8080" y="2948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93720" y="2948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09720" y="2948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25720" y="2948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43160" y="2948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59160" y="2948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74800" y="2948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90800" y="2948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06800" y="2948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22800" y="2948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38440" y="2948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54440" y="29480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74840" y="294804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263700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7000" y="342756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773160" y="353700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46040" y="342756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312560" y="353700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51080" y="3570120"/>
            <a:ext cx="244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13080" y="330192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51080" y="3789360"/>
            <a:ext cx="2447640" cy="431640"/>
          </a:xfrm>
          <a:custGeom>
            <a:avLst/>
            <a:gdLst/>
            <a:ahLst/>
            <a:rect l="l" t="t" r="r" b="b"/>
            <a:pathLst>
              <a:path w="680" h="187">
                <a:moveTo>
                  <a:pt x="0" y="0"/>
                </a:moveTo>
                <a:cubicBezTo>
                  <a:pt x="20" y="18"/>
                  <a:pt x="81" y="78"/>
                  <a:pt x="121" y="106"/>
                </a:cubicBezTo>
                <a:cubicBezTo>
                  <a:pt x="161" y="134"/>
                  <a:pt x="204" y="157"/>
                  <a:pt x="241" y="170"/>
                </a:cubicBezTo>
                <a:cubicBezTo>
                  <a:pt x="278" y="183"/>
                  <a:pt x="308" y="187"/>
                  <a:pt x="345" y="186"/>
                </a:cubicBezTo>
                <a:cubicBezTo>
                  <a:pt x="382" y="185"/>
                  <a:pt x="424" y="180"/>
                  <a:pt x="461" y="166"/>
                </a:cubicBezTo>
                <a:cubicBezTo>
                  <a:pt x="498" y="152"/>
                  <a:pt x="533" y="130"/>
                  <a:pt x="569" y="102"/>
                </a:cubicBezTo>
                <a:cubicBezTo>
                  <a:pt x="605" y="74"/>
                  <a:pt x="657" y="21"/>
                  <a:pt x="680" y="0"/>
                </a:cubicBez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51080" y="378936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73600" y="3789360"/>
            <a:ext cx="0" cy="43164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41920" y="3851280"/>
            <a:ext cx="647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36800" y="378936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98840" y="4227480"/>
            <a:ext cx="1368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2840" y="5602320"/>
            <a:ext cx="289080" cy="71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12840" y="56023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57200" y="5386320"/>
            <a:ext cx="716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285920" y="5386320"/>
            <a:ext cx="71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1000" y="5564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95360" y="5564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90680" y="469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6680" y="469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822320" y="469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38320" y="469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55760" y="469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71760" y="469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87760" y="469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03400" y="469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19400" y="469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35400" y="469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51400" y="469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67040" y="469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87440" y="46926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19600" y="56466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785760" y="575640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59000" y="56466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325160" y="575640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63680" y="5789520"/>
            <a:ext cx="2448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57280" y="5521320"/>
            <a:ext cx="490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66960" y="5600880"/>
            <a:ext cx="289080" cy="7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66960" y="56008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11680" y="5384880"/>
            <a:ext cx="71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739680" y="5384880"/>
            <a:ext cx="716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05120" y="55627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49840" y="556272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84200" y="4911840"/>
            <a:ext cx="2395800" cy="457200"/>
          </a:xfrm>
          <a:custGeom>
            <a:avLst/>
            <a:gdLst/>
            <a:ahLst/>
            <a:rect l="l" t="t" r="r" b="b"/>
            <a:pathLst>
              <a:path w="1509" h="288">
                <a:moveTo>
                  <a:pt x="0" y="288"/>
                </a:moveTo>
                <a:lnTo>
                  <a:pt x="360" y="0"/>
                </a:lnTo>
                <a:lnTo>
                  <a:pt x="1140" y="0"/>
                </a:lnTo>
                <a:lnTo>
                  <a:pt x="1509" y="28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7760" y="438156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60560" y="514368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1926720" y="575784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75080" y="514368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541240" y="575784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198960" y="514368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165120" y="575784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50920" y="5521320"/>
            <a:ext cx="490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660760" y="5522760"/>
            <a:ext cx="490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70240" y="5522760"/>
            <a:ext cx="490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52520" y="6153120"/>
            <a:ext cx="2463840" cy="173160"/>
          </a:xfrm>
          <a:custGeom>
            <a:avLst/>
            <a:gdLst/>
            <a:ahLst/>
            <a:rect l="l" t="t" r="r" b="b"/>
            <a:pathLst>
              <a:path w="1552" h="109">
                <a:moveTo>
                  <a:pt x="0" y="108"/>
                </a:moveTo>
                <a:cubicBezTo>
                  <a:pt x="21" y="105"/>
                  <a:pt x="82" y="104"/>
                  <a:pt x="124" y="96"/>
                </a:cubicBezTo>
                <a:cubicBezTo>
                  <a:pt x="166" y="88"/>
                  <a:pt x="209" y="76"/>
                  <a:pt x="252" y="60"/>
                </a:cubicBezTo>
                <a:cubicBezTo>
                  <a:pt x="295" y="44"/>
                  <a:pt x="328" y="24"/>
                  <a:pt x="384" y="0"/>
                </a:cubicBezTo>
                <a:cubicBezTo>
                  <a:pt x="448" y="28"/>
                  <a:pt x="478" y="44"/>
                  <a:pt x="524" y="60"/>
                </a:cubicBezTo>
                <a:cubicBezTo>
                  <a:pt x="570" y="76"/>
                  <a:pt x="618" y="88"/>
                  <a:pt x="660" y="96"/>
                </a:cubicBezTo>
                <a:cubicBezTo>
                  <a:pt x="702" y="104"/>
                  <a:pt x="737" y="107"/>
                  <a:pt x="776" y="108"/>
                </a:cubicBezTo>
                <a:cubicBezTo>
                  <a:pt x="815" y="109"/>
                  <a:pt x="848" y="108"/>
                  <a:pt x="892" y="100"/>
                </a:cubicBezTo>
                <a:cubicBezTo>
                  <a:pt x="936" y="92"/>
                  <a:pt x="995" y="77"/>
                  <a:pt x="1040" y="60"/>
                </a:cubicBezTo>
                <a:cubicBezTo>
                  <a:pt x="1085" y="43"/>
                  <a:pt x="1096" y="36"/>
                  <a:pt x="1164" y="0"/>
                </a:cubicBezTo>
                <a:cubicBezTo>
                  <a:pt x="1224" y="36"/>
                  <a:pt x="1258" y="47"/>
                  <a:pt x="1304" y="64"/>
                </a:cubicBezTo>
                <a:cubicBezTo>
                  <a:pt x="1350" y="81"/>
                  <a:pt x="1399" y="93"/>
                  <a:pt x="1440" y="100"/>
                </a:cubicBezTo>
                <a:cubicBezTo>
                  <a:pt x="1481" y="107"/>
                  <a:pt x="1529" y="106"/>
                  <a:pt x="1552" y="108"/>
                </a:cubicBezTo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4720" y="5902200"/>
            <a:ext cx="801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4360" y="3500280"/>
            <a:ext cx="552240" cy="1614600"/>
          </a:xfrm>
          <a:custGeom>
            <a:avLst/>
            <a:gdLst/>
            <a:ahLst/>
            <a:rect l="l" t="t" r="r" b="b"/>
            <a:pathLst>
              <a:path w="348" h="1108">
                <a:moveTo>
                  <a:pt x="272" y="0"/>
                </a:moveTo>
                <a:cubicBezTo>
                  <a:pt x="244" y="26"/>
                  <a:pt x="145" y="86"/>
                  <a:pt x="102" y="156"/>
                </a:cubicBezTo>
                <a:cubicBezTo>
                  <a:pt x="59" y="226"/>
                  <a:pt x="24" y="326"/>
                  <a:pt x="12" y="420"/>
                </a:cubicBezTo>
                <a:cubicBezTo>
                  <a:pt x="0" y="514"/>
                  <a:pt x="7" y="630"/>
                  <a:pt x="32" y="720"/>
                </a:cubicBezTo>
                <a:cubicBezTo>
                  <a:pt x="57" y="810"/>
                  <a:pt x="107" y="895"/>
                  <a:pt x="160" y="960"/>
                </a:cubicBezTo>
                <a:cubicBezTo>
                  <a:pt x="213" y="1025"/>
                  <a:pt x="309" y="1077"/>
                  <a:pt x="348" y="1108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960560" y="6081840"/>
            <a:ext cx="289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09880" y="6076800"/>
            <a:ext cx="2872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78080" y="4916520"/>
            <a:ext cx="2395440" cy="457200"/>
          </a:xfrm>
          <a:custGeom>
            <a:avLst/>
            <a:gdLst/>
            <a:ahLst/>
            <a:rect l="l" t="t" r="r" b="b"/>
            <a:pathLst>
              <a:path w="1509" h="288">
                <a:moveTo>
                  <a:pt x="0" y="288"/>
                </a:moveTo>
                <a:lnTo>
                  <a:pt x="360" y="0"/>
                </a:lnTo>
                <a:lnTo>
                  <a:pt x="1140" y="0"/>
                </a:lnTo>
                <a:lnTo>
                  <a:pt x="1509" y="286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78080" y="4921200"/>
            <a:ext cx="2395440" cy="452520"/>
          </a:xfrm>
          <a:custGeom>
            <a:avLst/>
            <a:gdLst/>
            <a:ahLst/>
            <a:rect l="l" t="t" r="r" b="b"/>
            <a:pathLst>
              <a:path w="1509" h="285">
                <a:moveTo>
                  <a:pt x="0" y="285"/>
                </a:moveTo>
                <a:lnTo>
                  <a:pt x="364" y="72"/>
                </a:lnTo>
                <a:lnTo>
                  <a:pt x="744" y="0"/>
                </a:lnTo>
                <a:lnTo>
                  <a:pt x="1140" y="68"/>
                </a:lnTo>
                <a:lnTo>
                  <a:pt x="1509" y="28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19040" y="53578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73520" y="53560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41600" y="48736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51280" y="5398920"/>
            <a:ext cx="433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4906800"/>
            <a:ext cx="1008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30720" y="4900680"/>
            <a:ext cx="0" cy="50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00480" y="4869000"/>
            <a:ext cx="6516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99040" y="5361120"/>
            <a:ext cx="6516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3640" y="5025960"/>
            <a:ext cx="50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48240" y="489420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16200" y="4869000"/>
            <a:ext cx="6516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16200" y="4994280"/>
            <a:ext cx="6516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48240" y="4879800"/>
            <a:ext cx="492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24240" y="4983120"/>
            <a:ext cx="28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51080" y="6151680"/>
            <a:ext cx="2463840" cy="172800"/>
          </a:xfrm>
          <a:custGeom>
            <a:avLst/>
            <a:gdLst/>
            <a:ahLst/>
            <a:rect l="l" t="t" r="r" b="b"/>
            <a:pathLst>
              <a:path w="1552" h="109">
                <a:moveTo>
                  <a:pt x="0" y="108"/>
                </a:moveTo>
                <a:cubicBezTo>
                  <a:pt x="21" y="105"/>
                  <a:pt x="82" y="104"/>
                  <a:pt x="124" y="96"/>
                </a:cubicBezTo>
                <a:cubicBezTo>
                  <a:pt x="166" y="88"/>
                  <a:pt x="209" y="76"/>
                  <a:pt x="252" y="60"/>
                </a:cubicBezTo>
                <a:cubicBezTo>
                  <a:pt x="295" y="44"/>
                  <a:pt x="328" y="24"/>
                  <a:pt x="384" y="0"/>
                </a:cubicBezTo>
                <a:cubicBezTo>
                  <a:pt x="448" y="28"/>
                  <a:pt x="478" y="44"/>
                  <a:pt x="524" y="60"/>
                </a:cubicBezTo>
                <a:cubicBezTo>
                  <a:pt x="570" y="76"/>
                  <a:pt x="618" y="88"/>
                  <a:pt x="660" y="96"/>
                </a:cubicBezTo>
                <a:cubicBezTo>
                  <a:pt x="702" y="104"/>
                  <a:pt x="737" y="107"/>
                  <a:pt x="776" y="108"/>
                </a:cubicBezTo>
                <a:cubicBezTo>
                  <a:pt x="815" y="109"/>
                  <a:pt x="848" y="108"/>
                  <a:pt x="892" y="100"/>
                </a:cubicBezTo>
                <a:cubicBezTo>
                  <a:pt x="936" y="92"/>
                  <a:pt x="995" y="77"/>
                  <a:pt x="1040" y="60"/>
                </a:cubicBezTo>
                <a:cubicBezTo>
                  <a:pt x="1085" y="43"/>
                  <a:pt x="1096" y="36"/>
                  <a:pt x="1164" y="0"/>
                </a:cubicBezTo>
                <a:cubicBezTo>
                  <a:pt x="1224" y="36"/>
                  <a:pt x="1258" y="47"/>
                  <a:pt x="1304" y="64"/>
                </a:cubicBezTo>
                <a:cubicBezTo>
                  <a:pt x="1350" y="81"/>
                  <a:pt x="1399" y="93"/>
                  <a:pt x="1440" y="100"/>
                </a:cubicBezTo>
                <a:cubicBezTo>
                  <a:pt x="1481" y="107"/>
                  <a:pt x="1529" y="106"/>
                  <a:pt x="1552" y="108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52520" y="6321600"/>
            <a:ext cx="2457360" cy="56880"/>
          </a:xfrm>
          <a:custGeom>
            <a:avLst/>
            <a:gdLst/>
            <a:ahLst/>
            <a:rect l="l" t="t" r="r" b="b"/>
            <a:pathLst>
              <a:path w="1548" h="49">
                <a:moveTo>
                  <a:pt x="0" y="0"/>
                </a:moveTo>
                <a:cubicBezTo>
                  <a:pt x="14" y="5"/>
                  <a:pt x="53" y="21"/>
                  <a:pt x="84" y="28"/>
                </a:cubicBezTo>
                <a:cubicBezTo>
                  <a:pt x="115" y="35"/>
                  <a:pt x="151" y="43"/>
                  <a:pt x="184" y="44"/>
                </a:cubicBezTo>
                <a:cubicBezTo>
                  <a:pt x="217" y="45"/>
                  <a:pt x="251" y="39"/>
                  <a:pt x="284" y="32"/>
                </a:cubicBezTo>
                <a:cubicBezTo>
                  <a:pt x="317" y="25"/>
                  <a:pt x="332" y="16"/>
                  <a:pt x="384" y="2"/>
                </a:cubicBezTo>
                <a:cubicBezTo>
                  <a:pt x="436" y="24"/>
                  <a:pt x="453" y="28"/>
                  <a:pt x="484" y="36"/>
                </a:cubicBezTo>
                <a:cubicBezTo>
                  <a:pt x="515" y="44"/>
                  <a:pt x="538" y="48"/>
                  <a:pt x="568" y="48"/>
                </a:cubicBezTo>
                <a:cubicBezTo>
                  <a:pt x="598" y="48"/>
                  <a:pt x="629" y="44"/>
                  <a:pt x="664" y="36"/>
                </a:cubicBezTo>
                <a:cubicBezTo>
                  <a:pt x="699" y="28"/>
                  <a:pt x="728" y="12"/>
                  <a:pt x="776" y="0"/>
                </a:cubicBezTo>
                <a:cubicBezTo>
                  <a:pt x="816" y="16"/>
                  <a:pt x="840" y="24"/>
                  <a:pt x="872" y="32"/>
                </a:cubicBezTo>
                <a:cubicBezTo>
                  <a:pt x="904" y="40"/>
                  <a:pt x="937" y="47"/>
                  <a:pt x="968" y="48"/>
                </a:cubicBezTo>
                <a:cubicBezTo>
                  <a:pt x="999" y="49"/>
                  <a:pt x="1023" y="48"/>
                  <a:pt x="1056" y="40"/>
                </a:cubicBezTo>
                <a:cubicBezTo>
                  <a:pt x="1089" y="32"/>
                  <a:pt x="1116" y="16"/>
                  <a:pt x="1164" y="2"/>
                </a:cubicBezTo>
                <a:cubicBezTo>
                  <a:pt x="1212" y="24"/>
                  <a:pt x="1224" y="28"/>
                  <a:pt x="1256" y="36"/>
                </a:cubicBezTo>
                <a:cubicBezTo>
                  <a:pt x="1288" y="44"/>
                  <a:pt x="1324" y="47"/>
                  <a:pt x="1356" y="48"/>
                </a:cubicBezTo>
                <a:cubicBezTo>
                  <a:pt x="1388" y="49"/>
                  <a:pt x="1416" y="48"/>
                  <a:pt x="1448" y="40"/>
                </a:cubicBezTo>
                <a:cubicBezTo>
                  <a:pt x="1480" y="32"/>
                  <a:pt x="1527" y="8"/>
                  <a:pt x="1548" y="0"/>
                </a:cubicBez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59000" y="63216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5800" y="6167520"/>
            <a:ext cx="94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635120" y="6375240"/>
            <a:ext cx="23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60920" y="632160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24360" y="617220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924360" y="636552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887400"/>
            <a:ext cx="1944720" cy="763560"/>
          </a:xfrm>
          <a:custGeom>
            <a:avLst/>
            <a:gdLst/>
            <a:ahLst/>
            <a:rect l="l" t="t" r="r" b="b"/>
            <a:pathLst>
              <a:path w="1179" h="681">
                <a:moveTo>
                  <a:pt x="0" y="681"/>
                </a:moveTo>
                <a:lnTo>
                  <a:pt x="0" y="0"/>
                </a:lnTo>
                <a:lnTo>
                  <a:pt x="1179" y="0"/>
                </a:lnTo>
                <a:lnTo>
                  <a:pt x="1179" y="68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62520" y="1689120"/>
            <a:ext cx="216000" cy="71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62520" y="1689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30920" y="1650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707240" y="1689120"/>
            <a:ext cx="216000" cy="71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707240" y="1689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775640" y="1650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6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83280" y="6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00720" y="6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16720" y="6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32720" y="6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6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164360" y="6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80360" y="6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96360" y="6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812000" y="666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18160" y="48744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6634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410080" y="1106640"/>
            <a:ext cx="5050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83560" y="1106640"/>
            <a:ext cx="504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94480" y="882720"/>
            <a:ext cx="504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072120" y="1271520"/>
                <a:ext cx="15829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5651640" y="2216160"/>
            <a:ext cx="215640" cy="784080"/>
          </a:xfrm>
          <a:custGeom>
            <a:avLst/>
            <a:gdLst/>
            <a:ahLst/>
            <a:rect l="l" t="t" r="r" b="b"/>
            <a:pathLst>
              <a:path w="136" h="590">
                <a:moveTo>
                  <a:pt x="136" y="590"/>
                </a:moveTo>
                <a:lnTo>
                  <a:pt x="0" y="0"/>
                </a:lnTo>
                <a:lnTo>
                  <a:pt x="136" y="0"/>
                </a:lnTo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812000" y="2216160"/>
            <a:ext cx="216000" cy="784080"/>
          </a:xfrm>
          <a:custGeom>
            <a:avLst/>
            <a:gdLst/>
            <a:ahLst/>
            <a:rect l="l" t="t" r="r" b="b"/>
            <a:pathLst>
              <a:path w="136" h="590">
                <a:moveTo>
                  <a:pt x="136" y="590"/>
                </a:moveTo>
                <a:lnTo>
                  <a:pt x="0" y="0"/>
                </a:lnTo>
                <a:lnTo>
                  <a:pt x="136" y="0"/>
                </a:ln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1160" y="1996920"/>
            <a:ext cx="1955520" cy="630360"/>
          </a:xfrm>
          <a:custGeom>
            <a:avLst/>
            <a:gdLst/>
            <a:ahLst/>
            <a:rect l="l" t="t" r="r" b="b"/>
            <a:pathLst>
              <a:path w="1232" h="397">
                <a:moveTo>
                  <a:pt x="4" y="138"/>
                </a:moveTo>
                <a:cubicBezTo>
                  <a:pt x="3" y="115"/>
                  <a:pt x="0" y="72"/>
                  <a:pt x="0" y="0"/>
                </a:cubicBezTo>
                <a:cubicBezTo>
                  <a:pt x="52" y="46"/>
                  <a:pt x="73" y="83"/>
                  <a:pt x="128" y="132"/>
                </a:cubicBezTo>
                <a:cubicBezTo>
                  <a:pt x="183" y="181"/>
                  <a:pt x="266" y="251"/>
                  <a:pt x="332" y="292"/>
                </a:cubicBezTo>
                <a:cubicBezTo>
                  <a:pt x="398" y="333"/>
                  <a:pt x="460" y="365"/>
                  <a:pt x="528" y="380"/>
                </a:cubicBezTo>
                <a:cubicBezTo>
                  <a:pt x="596" y="395"/>
                  <a:pt x="674" y="397"/>
                  <a:pt x="740" y="384"/>
                </a:cubicBezTo>
                <a:cubicBezTo>
                  <a:pt x="806" y="371"/>
                  <a:pt x="863" y="341"/>
                  <a:pt x="924" y="300"/>
                </a:cubicBezTo>
                <a:cubicBezTo>
                  <a:pt x="985" y="259"/>
                  <a:pt x="1057" y="190"/>
                  <a:pt x="1108" y="140"/>
                </a:cubicBezTo>
                <a:cubicBezTo>
                  <a:pt x="1159" y="90"/>
                  <a:pt x="1184" y="52"/>
                  <a:pt x="1229" y="2"/>
                </a:cubicBezTo>
                <a:cubicBezTo>
                  <a:pt x="1228" y="64"/>
                  <a:pt x="1232" y="77"/>
                  <a:pt x="1229" y="138"/>
                </a:cubicBezTo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2214720"/>
            <a:ext cx="1944720" cy="785520"/>
          </a:xfrm>
          <a:custGeom>
            <a:avLst/>
            <a:gdLst/>
            <a:ahLst/>
            <a:rect l="l" t="t" r="r" b="b"/>
            <a:pathLst>
              <a:path w="1179" h="681">
                <a:moveTo>
                  <a:pt x="0" y="681"/>
                </a:moveTo>
                <a:lnTo>
                  <a:pt x="0" y="0"/>
                </a:lnTo>
                <a:lnTo>
                  <a:pt x="1179" y="0"/>
                </a:lnTo>
                <a:lnTo>
                  <a:pt x="1179" y="68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67280" y="2212920"/>
            <a:ext cx="1951200" cy="630360"/>
          </a:xfrm>
          <a:custGeom>
            <a:avLst/>
            <a:gdLst/>
            <a:ahLst/>
            <a:rect l="l" t="t" r="r" b="b"/>
            <a:pathLst>
              <a:path w="1229" h="397">
                <a:moveTo>
                  <a:pt x="0" y="0"/>
                </a:moveTo>
                <a:cubicBezTo>
                  <a:pt x="52" y="46"/>
                  <a:pt x="73" y="83"/>
                  <a:pt x="128" y="132"/>
                </a:cubicBezTo>
                <a:cubicBezTo>
                  <a:pt x="183" y="181"/>
                  <a:pt x="266" y="251"/>
                  <a:pt x="332" y="292"/>
                </a:cubicBezTo>
                <a:cubicBezTo>
                  <a:pt x="398" y="333"/>
                  <a:pt x="460" y="365"/>
                  <a:pt x="528" y="380"/>
                </a:cubicBezTo>
                <a:cubicBezTo>
                  <a:pt x="596" y="395"/>
                  <a:pt x="674" y="397"/>
                  <a:pt x="740" y="384"/>
                </a:cubicBezTo>
                <a:cubicBezTo>
                  <a:pt x="806" y="371"/>
                  <a:pt x="863" y="341"/>
                  <a:pt x="924" y="300"/>
                </a:cubicBezTo>
                <a:cubicBezTo>
                  <a:pt x="985" y="259"/>
                  <a:pt x="1057" y="190"/>
                  <a:pt x="1108" y="140"/>
                </a:cubicBezTo>
                <a:cubicBezTo>
                  <a:pt x="1159" y="90"/>
                  <a:pt x="1184" y="52"/>
                  <a:pt x="1229" y="2"/>
                </a:cubicBezTo>
              </a:path>
            </a:pathLst>
          </a:custGeom>
          <a:noFill/>
          <a:ln w="1908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861160" y="1812960"/>
            <a:ext cx="1950840" cy="630360"/>
          </a:xfrm>
          <a:custGeom>
            <a:avLst/>
            <a:gdLst/>
            <a:ahLst/>
            <a:rect l="l" t="t" r="r" b="b"/>
            <a:pathLst>
              <a:path w="1229" h="397">
                <a:moveTo>
                  <a:pt x="4" y="252"/>
                </a:moveTo>
                <a:cubicBezTo>
                  <a:pt x="3" y="209"/>
                  <a:pt x="0" y="136"/>
                  <a:pt x="0" y="0"/>
                </a:cubicBezTo>
                <a:cubicBezTo>
                  <a:pt x="52" y="46"/>
                  <a:pt x="73" y="83"/>
                  <a:pt x="128" y="132"/>
                </a:cubicBezTo>
                <a:cubicBezTo>
                  <a:pt x="183" y="181"/>
                  <a:pt x="266" y="251"/>
                  <a:pt x="332" y="292"/>
                </a:cubicBezTo>
                <a:cubicBezTo>
                  <a:pt x="398" y="333"/>
                  <a:pt x="460" y="365"/>
                  <a:pt x="528" y="380"/>
                </a:cubicBezTo>
                <a:cubicBezTo>
                  <a:pt x="596" y="395"/>
                  <a:pt x="674" y="397"/>
                  <a:pt x="740" y="384"/>
                </a:cubicBezTo>
                <a:cubicBezTo>
                  <a:pt x="806" y="371"/>
                  <a:pt x="863" y="341"/>
                  <a:pt x="924" y="300"/>
                </a:cubicBezTo>
                <a:cubicBezTo>
                  <a:pt x="985" y="259"/>
                  <a:pt x="1057" y="190"/>
                  <a:pt x="1108" y="140"/>
                </a:cubicBezTo>
                <a:cubicBezTo>
                  <a:pt x="1159" y="90"/>
                  <a:pt x="1176" y="64"/>
                  <a:pt x="1229" y="2"/>
                </a:cubicBezTo>
                <a:cubicBezTo>
                  <a:pt x="1228" y="64"/>
                  <a:pt x="1228" y="203"/>
                  <a:pt x="1228" y="25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812000" y="2216160"/>
            <a:ext cx="395280" cy="784080"/>
          </a:xfrm>
          <a:custGeom>
            <a:avLst/>
            <a:gdLst/>
            <a:ahLst/>
            <a:rect l="l" t="t" r="r" b="b"/>
            <a:pathLst>
              <a:path w="136" h="590">
                <a:moveTo>
                  <a:pt x="136" y="590"/>
                </a:moveTo>
                <a:lnTo>
                  <a:pt x="0" y="0"/>
                </a:lnTo>
                <a:lnTo>
                  <a:pt x="136" y="0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72000" y="2216160"/>
            <a:ext cx="395280" cy="784080"/>
          </a:xfrm>
          <a:custGeom>
            <a:avLst/>
            <a:gdLst/>
            <a:ahLst/>
            <a:rect l="l" t="t" r="r" b="b"/>
            <a:pathLst>
              <a:path w="136" h="590">
                <a:moveTo>
                  <a:pt x="136" y="590"/>
                </a:moveTo>
                <a:lnTo>
                  <a:pt x="0" y="0"/>
                </a:lnTo>
                <a:lnTo>
                  <a:pt x="136" y="0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221520" y="1776240"/>
                <a:ext cx="12207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940360" y="2862360"/>
                <a:ext cx="11448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 flipV="1">
            <a:off x="6516720" y="2798640"/>
            <a:ext cx="108000" cy="1080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078600" y="1960560"/>
            <a:ext cx="142920" cy="712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45520" y="1968480"/>
            <a:ext cx="153720" cy="7956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30880" y="2681280"/>
            <a:ext cx="648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918560" y="1790640"/>
            <a:ext cx="766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89680" y="2833560"/>
            <a:ext cx="289080" cy="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808760" y="1820880"/>
            <a:ext cx="179640" cy="712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134200" y="2075040"/>
            <a:ext cx="76320" cy="1364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92600" y="37670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60840" y="3975120"/>
            <a:ext cx="289080" cy="7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460840" y="397512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605560" y="3759120"/>
            <a:ext cx="71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533560" y="3759120"/>
            <a:ext cx="716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99000" y="3936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43720" y="393696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956720" y="3984480"/>
            <a:ext cx="215640" cy="7164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956720" y="39844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66160" y="37688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240" y="394668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599080" y="3467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16520" y="3467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41880" y="3467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67600" y="3467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94400" y="3467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10400" y="3467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35760" y="3467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151760" y="3467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77120" y="3467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02480" y="3467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27840" y="3467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056440" y="34671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99080" y="34671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323120" y="316080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067600" y="40194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027640" y="412920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07000" y="40194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5573880" y="4122720"/>
            <a:ext cx="7272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11680" y="4162320"/>
            <a:ext cx="2448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68960" y="3851280"/>
            <a:ext cx="419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451640" y="3854520"/>
            <a:ext cx="419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151760" y="40194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7117920" y="4129200"/>
            <a:ext cx="73080" cy="730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39080" y="3984480"/>
            <a:ext cx="215640" cy="716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39080" y="39844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48520" y="37688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113600" y="394668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13600" y="37828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14920" y="3767040"/>
            <a:ext cx="2448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19600" y="3718080"/>
            <a:ext cx="2451240" cy="147600"/>
          </a:xfrm>
          <a:custGeom>
            <a:avLst/>
            <a:gdLst/>
            <a:ahLst/>
            <a:rect l="l" t="t" r="r" b="b"/>
            <a:pathLst>
              <a:path w="1544" h="116">
                <a:moveTo>
                  <a:pt x="0" y="31"/>
                </a:moveTo>
                <a:cubicBezTo>
                  <a:pt x="38" y="42"/>
                  <a:pt x="149" y="81"/>
                  <a:pt x="228" y="95"/>
                </a:cubicBezTo>
                <a:cubicBezTo>
                  <a:pt x="307" y="109"/>
                  <a:pt x="390" y="116"/>
                  <a:pt x="472" y="115"/>
                </a:cubicBezTo>
                <a:cubicBezTo>
                  <a:pt x="554" y="114"/>
                  <a:pt x="638" y="105"/>
                  <a:pt x="720" y="91"/>
                </a:cubicBezTo>
                <a:cubicBezTo>
                  <a:pt x="802" y="77"/>
                  <a:pt x="898" y="45"/>
                  <a:pt x="964" y="31"/>
                </a:cubicBezTo>
                <a:cubicBezTo>
                  <a:pt x="1030" y="17"/>
                  <a:pt x="1068" y="12"/>
                  <a:pt x="1116" y="7"/>
                </a:cubicBezTo>
                <a:cubicBezTo>
                  <a:pt x="1164" y="2"/>
                  <a:pt x="1198" y="0"/>
                  <a:pt x="1252" y="3"/>
                </a:cubicBezTo>
                <a:cubicBezTo>
                  <a:pt x="1306" y="6"/>
                  <a:pt x="1391" y="22"/>
                  <a:pt x="1440" y="27"/>
                </a:cubicBezTo>
                <a:cubicBezTo>
                  <a:pt x="1489" y="32"/>
                  <a:pt x="1522" y="30"/>
                  <a:pt x="1544" y="3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567400" y="37306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31240" y="37306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03760" y="4435560"/>
            <a:ext cx="2451240" cy="374400"/>
          </a:xfrm>
          <a:custGeom>
            <a:avLst/>
            <a:gdLst/>
            <a:ahLst/>
            <a:rect l="l" t="t" r="r" b="b"/>
            <a:pathLst>
              <a:path w="1544" h="236">
                <a:moveTo>
                  <a:pt x="0" y="81"/>
                </a:moveTo>
                <a:cubicBezTo>
                  <a:pt x="33" y="99"/>
                  <a:pt x="130" y="163"/>
                  <a:pt x="197" y="188"/>
                </a:cubicBezTo>
                <a:cubicBezTo>
                  <a:pt x="264" y="213"/>
                  <a:pt x="334" y="228"/>
                  <a:pt x="401" y="232"/>
                </a:cubicBezTo>
                <a:cubicBezTo>
                  <a:pt x="468" y="236"/>
                  <a:pt x="535" y="229"/>
                  <a:pt x="597" y="212"/>
                </a:cubicBezTo>
                <a:cubicBezTo>
                  <a:pt x="659" y="195"/>
                  <a:pt x="710" y="163"/>
                  <a:pt x="773" y="128"/>
                </a:cubicBezTo>
                <a:cubicBezTo>
                  <a:pt x="836" y="93"/>
                  <a:pt x="889" y="60"/>
                  <a:pt x="977" y="0"/>
                </a:cubicBezTo>
                <a:cubicBezTo>
                  <a:pt x="1073" y="32"/>
                  <a:pt x="1068" y="34"/>
                  <a:pt x="1113" y="48"/>
                </a:cubicBezTo>
                <a:cubicBezTo>
                  <a:pt x="1158" y="62"/>
                  <a:pt x="1198" y="75"/>
                  <a:pt x="1249" y="84"/>
                </a:cubicBezTo>
                <a:cubicBezTo>
                  <a:pt x="1300" y="93"/>
                  <a:pt x="1372" y="100"/>
                  <a:pt x="1421" y="100"/>
                </a:cubicBezTo>
                <a:cubicBezTo>
                  <a:pt x="1470" y="100"/>
                  <a:pt x="1519" y="85"/>
                  <a:pt x="1544" y="81"/>
                </a:cubicBezTo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03760" y="4336920"/>
            <a:ext cx="2451240" cy="419400"/>
          </a:xfrm>
          <a:custGeom>
            <a:avLst/>
            <a:gdLst/>
            <a:ahLst/>
            <a:rect l="l" t="t" r="r" b="b"/>
            <a:pathLst>
              <a:path w="1544" h="264">
                <a:moveTo>
                  <a:pt x="0" y="140"/>
                </a:moveTo>
                <a:cubicBezTo>
                  <a:pt x="33" y="155"/>
                  <a:pt x="130" y="207"/>
                  <a:pt x="197" y="228"/>
                </a:cubicBezTo>
                <a:cubicBezTo>
                  <a:pt x="264" y="249"/>
                  <a:pt x="336" y="264"/>
                  <a:pt x="405" y="264"/>
                </a:cubicBezTo>
                <a:cubicBezTo>
                  <a:pt x="474" y="264"/>
                  <a:pt x="546" y="249"/>
                  <a:pt x="609" y="228"/>
                </a:cubicBezTo>
                <a:cubicBezTo>
                  <a:pt x="672" y="207"/>
                  <a:pt x="720" y="178"/>
                  <a:pt x="781" y="140"/>
                </a:cubicBezTo>
                <a:cubicBezTo>
                  <a:pt x="842" y="102"/>
                  <a:pt x="897" y="60"/>
                  <a:pt x="977" y="0"/>
                </a:cubicBezTo>
                <a:cubicBezTo>
                  <a:pt x="1057" y="36"/>
                  <a:pt x="1064" y="45"/>
                  <a:pt x="1109" y="64"/>
                </a:cubicBezTo>
                <a:cubicBezTo>
                  <a:pt x="1154" y="83"/>
                  <a:pt x="1195" y="103"/>
                  <a:pt x="1245" y="116"/>
                </a:cubicBezTo>
                <a:cubicBezTo>
                  <a:pt x="1295" y="129"/>
                  <a:pt x="1359" y="136"/>
                  <a:pt x="1409" y="140"/>
                </a:cubicBezTo>
                <a:cubicBezTo>
                  <a:pt x="1459" y="144"/>
                  <a:pt x="1516" y="140"/>
                  <a:pt x="1544" y="140"/>
                </a:cubicBezTo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610240" y="4435560"/>
            <a:ext cx="2451240" cy="374400"/>
          </a:xfrm>
          <a:custGeom>
            <a:avLst/>
            <a:gdLst/>
            <a:ahLst/>
            <a:rect l="l" t="t" r="r" b="b"/>
            <a:pathLst>
              <a:path w="1544" h="236">
                <a:moveTo>
                  <a:pt x="0" y="81"/>
                </a:moveTo>
                <a:cubicBezTo>
                  <a:pt x="33" y="99"/>
                  <a:pt x="130" y="163"/>
                  <a:pt x="197" y="188"/>
                </a:cubicBezTo>
                <a:cubicBezTo>
                  <a:pt x="264" y="213"/>
                  <a:pt x="334" y="228"/>
                  <a:pt x="401" y="232"/>
                </a:cubicBezTo>
                <a:cubicBezTo>
                  <a:pt x="468" y="236"/>
                  <a:pt x="535" y="229"/>
                  <a:pt x="597" y="212"/>
                </a:cubicBezTo>
                <a:cubicBezTo>
                  <a:pt x="659" y="195"/>
                  <a:pt x="710" y="163"/>
                  <a:pt x="773" y="128"/>
                </a:cubicBezTo>
                <a:cubicBezTo>
                  <a:pt x="836" y="93"/>
                  <a:pt x="889" y="60"/>
                  <a:pt x="977" y="0"/>
                </a:cubicBezTo>
                <a:cubicBezTo>
                  <a:pt x="1073" y="32"/>
                  <a:pt x="1068" y="34"/>
                  <a:pt x="1113" y="48"/>
                </a:cubicBezTo>
                <a:cubicBezTo>
                  <a:pt x="1158" y="62"/>
                  <a:pt x="1198" y="75"/>
                  <a:pt x="1249" y="84"/>
                </a:cubicBezTo>
                <a:cubicBezTo>
                  <a:pt x="1300" y="93"/>
                  <a:pt x="1372" y="100"/>
                  <a:pt x="1421" y="100"/>
                </a:cubicBezTo>
                <a:cubicBezTo>
                  <a:pt x="1470" y="100"/>
                  <a:pt x="1519" y="85"/>
                  <a:pt x="1544" y="81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607000" y="456552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645160" y="3659040"/>
            <a:ext cx="2387520" cy="190800"/>
          </a:xfrm>
          <a:custGeom>
            <a:avLst/>
            <a:gdLst/>
            <a:ahLst/>
            <a:rect l="l" t="t" r="r" b="b"/>
            <a:pathLst>
              <a:path w="1504" h="120">
                <a:moveTo>
                  <a:pt x="0" y="64"/>
                </a:moveTo>
                <a:cubicBezTo>
                  <a:pt x="35" y="72"/>
                  <a:pt x="136" y="100"/>
                  <a:pt x="212" y="109"/>
                </a:cubicBezTo>
                <a:cubicBezTo>
                  <a:pt x="288" y="118"/>
                  <a:pt x="375" y="120"/>
                  <a:pt x="456" y="117"/>
                </a:cubicBezTo>
                <a:cubicBezTo>
                  <a:pt x="537" y="114"/>
                  <a:pt x="635" y="100"/>
                  <a:pt x="696" y="89"/>
                </a:cubicBezTo>
                <a:cubicBezTo>
                  <a:pt x="757" y="78"/>
                  <a:pt x="780" y="65"/>
                  <a:pt x="824" y="53"/>
                </a:cubicBezTo>
                <a:cubicBezTo>
                  <a:pt x="868" y="41"/>
                  <a:pt x="909" y="26"/>
                  <a:pt x="960" y="17"/>
                </a:cubicBezTo>
                <a:cubicBezTo>
                  <a:pt x="1011" y="8"/>
                  <a:pt x="1072" y="0"/>
                  <a:pt x="1128" y="1"/>
                </a:cubicBezTo>
                <a:cubicBezTo>
                  <a:pt x="1184" y="2"/>
                  <a:pt x="1245" y="13"/>
                  <a:pt x="1296" y="21"/>
                </a:cubicBezTo>
                <a:cubicBezTo>
                  <a:pt x="1347" y="29"/>
                  <a:pt x="1397" y="43"/>
                  <a:pt x="1432" y="49"/>
                </a:cubicBezTo>
                <a:cubicBezTo>
                  <a:pt x="1467" y="55"/>
                  <a:pt x="1489" y="57"/>
                  <a:pt x="1504" y="5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39080" y="3914640"/>
            <a:ext cx="215640" cy="7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9080" y="3914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48520" y="369900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3600" y="387684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113600" y="37130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0" y="398952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853320" y="3911760"/>
            <a:ext cx="215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902280" y="3911760"/>
            <a:ext cx="0" cy="7128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67480" y="3843360"/>
            <a:ext cx="43164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64240" y="5826240"/>
            <a:ext cx="24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32480" y="6033960"/>
            <a:ext cx="288720" cy="7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532480" y="60339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676840" y="5818320"/>
            <a:ext cx="7164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605560" y="5818320"/>
            <a:ext cx="712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70640" y="599616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15000" y="5996160"/>
            <a:ext cx="73080" cy="72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38680" y="5789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028000" y="6043680"/>
            <a:ext cx="216000" cy="712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028000" y="60436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37440" y="58276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102520" y="6005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102520" y="5789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72160" y="5592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94280" y="5599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0280" y="5599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45360" y="5599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568920" y="5599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91400" y="5599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07400" y="5599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236000" y="5599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451640" y="5599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686720" y="5599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08840" y="5599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134200" y="5580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70720" y="559584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6000" y="5288040"/>
            <a:ext cx="287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48360" y="5133960"/>
            <a:ext cx="3462120" cy="693720"/>
          </a:xfrm>
          <a:custGeom>
            <a:avLst/>
            <a:gdLst/>
            <a:ahLst/>
            <a:rect l="l" t="t" r="r" b="b"/>
            <a:pathLst>
              <a:path w="2181" h="437">
                <a:moveTo>
                  <a:pt x="0" y="437"/>
                </a:moveTo>
                <a:lnTo>
                  <a:pt x="321" y="0"/>
                </a:lnTo>
                <a:lnTo>
                  <a:pt x="653" y="144"/>
                </a:lnTo>
                <a:lnTo>
                  <a:pt x="965" y="192"/>
                </a:lnTo>
                <a:lnTo>
                  <a:pt x="1257" y="192"/>
                </a:lnTo>
                <a:lnTo>
                  <a:pt x="1545" y="140"/>
                </a:lnTo>
                <a:lnTo>
                  <a:pt x="1881" y="8"/>
                </a:lnTo>
                <a:lnTo>
                  <a:pt x="2181" y="43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670720" y="513864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134200" y="51418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88040" y="537048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601040" y="537048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665760" y="54482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157880" y="54421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491680" y="5827680"/>
            <a:ext cx="215640" cy="7164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491680" y="58276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566200" y="5789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038560" y="5827680"/>
            <a:ext cx="216000" cy="7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38560" y="58276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113440" y="5789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29320" y="5100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93160" y="511344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8440" y="53229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56360" y="573552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30840" y="57340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116840" y="57340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561440" y="5734080"/>
            <a:ext cx="7272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24720" y="5402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118280" y="540216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62880" y="5316480"/>
            <a:ext cx="73080" cy="73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94480" y="6216480"/>
            <a:ext cx="2425680" cy="273240"/>
          </a:xfrm>
          <a:custGeom>
            <a:avLst/>
            <a:gdLst/>
            <a:ahLst/>
            <a:rect l="l" t="t" r="r" b="b"/>
            <a:pathLst>
              <a:path w="1528" h="172">
                <a:moveTo>
                  <a:pt x="0" y="0"/>
                </a:moveTo>
                <a:cubicBezTo>
                  <a:pt x="13" y="9"/>
                  <a:pt x="45" y="38"/>
                  <a:pt x="72" y="52"/>
                </a:cubicBezTo>
                <a:cubicBezTo>
                  <a:pt x="99" y="66"/>
                  <a:pt x="133" y="77"/>
                  <a:pt x="160" y="84"/>
                </a:cubicBezTo>
                <a:cubicBezTo>
                  <a:pt x="187" y="91"/>
                  <a:pt x="206" y="91"/>
                  <a:pt x="232" y="92"/>
                </a:cubicBezTo>
                <a:cubicBezTo>
                  <a:pt x="258" y="93"/>
                  <a:pt x="277" y="97"/>
                  <a:pt x="316" y="92"/>
                </a:cubicBezTo>
                <a:cubicBezTo>
                  <a:pt x="346" y="109"/>
                  <a:pt x="365" y="119"/>
                  <a:pt x="388" y="128"/>
                </a:cubicBezTo>
                <a:cubicBezTo>
                  <a:pt x="411" y="137"/>
                  <a:pt x="431" y="145"/>
                  <a:pt x="456" y="148"/>
                </a:cubicBezTo>
                <a:cubicBezTo>
                  <a:pt x="481" y="151"/>
                  <a:pt x="513" y="151"/>
                  <a:pt x="540" y="148"/>
                </a:cubicBezTo>
                <a:cubicBezTo>
                  <a:pt x="567" y="145"/>
                  <a:pt x="586" y="139"/>
                  <a:pt x="620" y="128"/>
                </a:cubicBezTo>
                <a:cubicBezTo>
                  <a:pt x="661" y="151"/>
                  <a:pt x="669" y="153"/>
                  <a:pt x="696" y="160"/>
                </a:cubicBezTo>
                <a:cubicBezTo>
                  <a:pt x="723" y="167"/>
                  <a:pt x="755" y="172"/>
                  <a:pt x="784" y="172"/>
                </a:cubicBezTo>
                <a:cubicBezTo>
                  <a:pt x="813" y="172"/>
                  <a:pt x="844" y="167"/>
                  <a:pt x="868" y="160"/>
                </a:cubicBezTo>
                <a:cubicBezTo>
                  <a:pt x="892" y="153"/>
                  <a:pt x="895" y="154"/>
                  <a:pt x="928" y="132"/>
                </a:cubicBezTo>
                <a:cubicBezTo>
                  <a:pt x="964" y="148"/>
                  <a:pt x="970" y="149"/>
                  <a:pt x="996" y="152"/>
                </a:cubicBezTo>
                <a:cubicBezTo>
                  <a:pt x="1022" y="155"/>
                  <a:pt x="1057" y="157"/>
                  <a:pt x="1084" y="152"/>
                </a:cubicBezTo>
                <a:cubicBezTo>
                  <a:pt x="1111" y="147"/>
                  <a:pt x="1135" y="132"/>
                  <a:pt x="1156" y="121"/>
                </a:cubicBezTo>
                <a:cubicBezTo>
                  <a:pt x="1177" y="110"/>
                  <a:pt x="1180" y="106"/>
                  <a:pt x="1208" y="84"/>
                </a:cubicBezTo>
                <a:cubicBezTo>
                  <a:pt x="1240" y="94"/>
                  <a:pt x="1257" y="91"/>
                  <a:pt x="1284" y="92"/>
                </a:cubicBezTo>
                <a:cubicBezTo>
                  <a:pt x="1311" y="93"/>
                  <a:pt x="1343" y="94"/>
                  <a:pt x="1372" y="88"/>
                </a:cubicBezTo>
                <a:cubicBezTo>
                  <a:pt x="1401" y="82"/>
                  <a:pt x="1434" y="71"/>
                  <a:pt x="1460" y="56"/>
                </a:cubicBezTo>
                <a:cubicBezTo>
                  <a:pt x="1486" y="41"/>
                  <a:pt x="1514" y="12"/>
                  <a:pt x="1528" y="0"/>
                </a:cubicBezTo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700600" y="6218280"/>
            <a:ext cx="2425680" cy="272880"/>
          </a:xfrm>
          <a:custGeom>
            <a:avLst/>
            <a:gdLst/>
            <a:ahLst/>
            <a:rect l="l" t="t" r="r" b="b"/>
            <a:pathLst>
              <a:path w="1528" h="172">
                <a:moveTo>
                  <a:pt x="0" y="0"/>
                </a:moveTo>
                <a:cubicBezTo>
                  <a:pt x="13" y="9"/>
                  <a:pt x="45" y="38"/>
                  <a:pt x="72" y="52"/>
                </a:cubicBezTo>
                <a:cubicBezTo>
                  <a:pt x="99" y="66"/>
                  <a:pt x="133" y="77"/>
                  <a:pt x="160" y="84"/>
                </a:cubicBezTo>
                <a:cubicBezTo>
                  <a:pt x="187" y="91"/>
                  <a:pt x="206" y="91"/>
                  <a:pt x="232" y="92"/>
                </a:cubicBezTo>
                <a:cubicBezTo>
                  <a:pt x="258" y="93"/>
                  <a:pt x="277" y="97"/>
                  <a:pt x="316" y="92"/>
                </a:cubicBezTo>
                <a:cubicBezTo>
                  <a:pt x="346" y="109"/>
                  <a:pt x="365" y="119"/>
                  <a:pt x="388" y="128"/>
                </a:cubicBezTo>
                <a:cubicBezTo>
                  <a:pt x="411" y="137"/>
                  <a:pt x="431" y="145"/>
                  <a:pt x="456" y="148"/>
                </a:cubicBezTo>
                <a:cubicBezTo>
                  <a:pt x="481" y="151"/>
                  <a:pt x="513" y="151"/>
                  <a:pt x="540" y="148"/>
                </a:cubicBezTo>
                <a:cubicBezTo>
                  <a:pt x="567" y="145"/>
                  <a:pt x="586" y="139"/>
                  <a:pt x="620" y="128"/>
                </a:cubicBezTo>
                <a:cubicBezTo>
                  <a:pt x="661" y="151"/>
                  <a:pt x="669" y="153"/>
                  <a:pt x="696" y="160"/>
                </a:cubicBezTo>
                <a:cubicBezTo>
                  <a:pt x="723" y="167"/>
                  <a:pt x="755" y="172"/>
                  <a:pt x="784" y="172"/>
                </a:cubicBezTo>
                <a:cubicBezTo>
                  <a:pt x="813" y="172"/>
                  <a:pt x="844" y="167"/>
                  <a:pt x="868" y="160"/>
                </a:cubicBezTo>
                <a:cubicBezTo>
                  <a:pt x="892" y="153"/>
                  <a:pt x="895" y="154"/>
                  <a:pt x="928" y="132"/>
                </a:cubicBezTo>
                <a:cubicBezTo>
                  <a:pt x="964" y="148"/>
                  <a:pt x="970" y="149"/>
                  <a:pt x="996" y="152"/>
                </a:cubicBezTo>
                <a:cubicBezTo>
                  <a:pt x="1022" y="155"/>
                  <a:pt x="1057" y="157"/>
                  <a:pt x="1084" y="152"/>
                </a:cubicBezTo>
                <a:cubicBezTo>
                  <a:pt x="1111" y="147"/>
                  <a:pt x="1135" y="132"/>
                  <a:pt x="1156" y="121"/>
                </a:cubicBezTo>
                <a:cubicBezTo>
                  <a:pt x="1177" y="110"/>
                  <a:pt x="1180" y="106"/>
                  <a:pt x="1208" y="84"/>
                </a:cubicBezTo>
                <a:cubicBezTo>
                  <a:pt x="1240" y="94"/>
                  <a:pt x="1257" y="91"/>
                  <a:pt x="1284" y="92"/>
                </a:cubicBezTo>
                <a:cubicBezTo>
                  <a:pt x="1311" y="93"/>
                  <a:pt x="1343" y="94"/>
                  <a:pt x="1372" y="88"/>
                </a:cubicBezTo>
                <a:cubicBezTo>
                  <a:pt x="1401" y="82"/>
                  <a:pt x="1434" y="71"/>
                  <a:pt x="1460" y="56"/>
                </a:cubicBezTo>
                <a:cubicBezTo>
                  <a:pt x="1486" y="41"/>
                  <a:pt x="1514" y="12"/>
                  <a:pt x="1528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91240" y="6188040"/>
            <a:ext cx="2438280" cy="77760"/>
          </a:xfrm>
          <a:custGeom>
            <a:avLst/>
            <a:gdLst/>
            <a:ahLst/>
            <a:rect l="l" t="t" r="r" b="b"/>
            <a:pathLst>
              <a:path w="1536" h="49">
                <a:moveTo>
                  <a:pt x="0" y="15"/>
                </a:moveTo>
                <a:cubicBezTo>
                  <a:pt x="13" y="19"/>
                  <a:pt x="55" y="34"/>
                  <a:pt x="81" y="39"/>
                </a:cubicBezTo>
                <a:cubicBezTo>
                  <a:pt x="107" y="44"/>
                  <a:pt x="130" y="48"/>
                  <a:pt x="156" y="48"/>
                </a:cubicBezTo>
                <a:cubicBezTo>
                  <a:pt x="182" y="48"/>
                  <a:pt x="210" y="42"/>
                  <a:pt x="237" y="36"/>
                </a:cubicBezTo>
                <a:cubicBezTo>
                  <a:pt x="264" y="30"/>
                  <a:pt x="279" y="27"/>
                  <a:pt x="318" y="9"/>
                </a:cubicBezTo>
                <a:cubicBezTo>
                  <a:pt x="348" y="26"/>
                  <a:pt x="374" y="31"/>
                  <a:pt x="399" y="36"/>
                </a:cubicBezTo>
                <a:cubicBezTo>
                  <a:pt x="424" y="42"/>
                  <a:pt x="442" y="46"/>
                  <a:pt x="468" y="45"/>
                </a:cubicBezTo>
                <a:cubicBezTo>
                  <a:pt x="494" y="44"/>
                  <a:pt x="529" y="38"/>
                  <a:pt x="555" y="30"/>
                </a:cubicBezTo>
                <a:cubicBezTo>
                  <a:pt x="581" y="22"/>
                  <a:pt x="594" y="18"/>
                  <a:pt x="624" y="0"/>
                </a:cubicBezTo>
                <a:cubicBezTo>
                  <a:pt x="665" y="23"/>
                  <a:pt x="664" y="25"/>
                  <a:pt x="690" y="33"/>
                </a:cubicBezTo>
                <a:cubicBezTo>
                  <a:pt x="716" y="41"/>
                  <a:pt x="755" y="47"/>
                  <a:pt x="783" y="48"/>
                </a:cubicBezTo>
                <a:cubicBezTo>
                  <a:pt x="811" y="49"/>
                  <a:pt x="835" y="47"/>
                  <a:pt x="861" y="39"/>
                </a:cubicBezTo>
                <a:cubicBezTo>
                  <a:pt x="887" y="31"/>
                  <a:pt x="900" y="21"/>
                  <a:pt x="939" y="0"/>
                </a:cubicBezTo>
                <a:cubicBezTo>
                  <a:pt x="981" y="27"/>
                  <a:pt x="978" y="23"/>
                  <a:pt x="999" y="30"/>
                </a:cubicBezTo>
                <a:cubicBezTo>
                  <a:pt x="1020" y="37"/>
                  <a:pt x="1039" y="44"/>
                  <a:pt x="1065" y="45"/>
                </a:cubicBezTo>
                <a:cubicBezTo>
                  <a:pt x="1091" y="46"/>
                  <a:pt x="1130" y="39"/>
                  <a:pt x="1155" y="33"/>
                </a:cubicBezTo>
                <a:cubicBezTo>
                  <a:pt x="1180" y="27"/>
                  <a:pt x="1179" y="24"/>
                  <a:pt x="1216" y="10"/>
                </a:cubicBezTo>
                <a:cubicBezTo>
                  <a:pt x="1248" y="20"/>
                  <a:pt x="1264" y="26"/>
                  <a:pt x="1290" y="33"/>
                </a:cubicBezTo>
                <a:cubicBezTo>
                  <a:pt x="1317" y="39"/>
                  <a:pt x="1349" y="47"/>
                  <a:pt x="1377" y="48"/>
                </a:cubicBezTo>
                <a:cubicBezTo>
                  <a:pt x="1405" y="49"/>
                  <a:pt x="1432" y="45"/>
                  <a:pt x="1458" y="39"/>
                </a:cubicBezTo>
                <a:cubicBezTo>
                  <a:pt x="1484" y="33"/>
                  <a:pt x="1520" y="18"/>
                  <a:pt x="1536" y="12"/>
                </a:cubicBezTo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684760" y="62118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0120" y="5302080"/>
            <a:ext cx="142920" cy="2160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94840" y="5506920"/>
            <a:ext cx="142560" cy="216000"/>
          </a:xfrm>
          <a:prstGeom prst="line">
            <a:avLst/>
          </a:prstGeom>
          <a:ln w="3816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344080" y="5270400"/>
            <a:ext cx="620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cc3300"/>
                </a:solidFill>
                <a:latin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76840" y="2570040"/>
            <a:ext cx="16556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Измен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расчётн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схемы и</a:t>
            </a:r>
            <a:r>
              <a:rPr b="1" i="1" lang="en-US" sz="8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i="1" lang="en-US" sz="1700" spc="-1" strike="noStrike">
                <a:solidFill>
                  <a:srgbClr val="333399"/>
                </a:solidFill>
                <a:latin typeface="Arial Narrow"/>
              </a:rPr>
              <a:t>/</a:t>
            </a:r>
            <a:r>
              <a:rPr b="1" i="1" lang="en-US" sz="8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и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99"/>
                </a:solidFill>
                <a:latin typeface="Arial Narrow"/>
              </a:rPr>
              <a:t>её параметр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15519600">
            <a:off x="4122360" y="1803960"/>
            <a:ext cx="1258920" cy="287640"/>
          </a:xfrm>
          <a:custGeom>
            <a:avLst/>
            <a:gdLst>
              <a:gd name="textAreaLeft" fmla="*/ 249480 w 1258920"/>
              <a:gd name="textAreaRight" fmla="*/ 883800 w 125892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60" hR="21600" stAng="10800000" swAng="-5400000"/>
                <a:lnTo>
                  <a:pt x="10881" y="21600"/>
                </a:lnTo>
                <a:arcTo wR="8560" hR="21600" stAng="5400000" swAng="-2895647"/>
                <a:lnTo>
                  <a:pt x="21110" y="7200"/>
                </a:lnTo>
                <a:lnTo>
                  <a:pt x="18280" y="0"/>
                </a:lnTo>
                <a:lnTo>
                  <a:pt x="14469" y="7200"/>
                </a:lnTo>
                <a:lnTo>
                  <a:pt x="16629" y="7200"/>
                </a:lnTo>
                <a:arcTo wR="8560" hR="21600" stAng="2504353" swAng="2709408"/>
                <a:lnTo>
                  <a:pt x="9720" y="21401"/>
                </a:lnTo>
                <a:arcTo wR="8560" hR="21600" stAng="5586238" swAng="5213762"/>
                <a:close/>
              </a:path>
              <a:path fill="darkenLess" w="21600" h="21600">
                <a:moveTo>
                  <a:pt x="0" y="0"/>
                </a:moveTo>
                <a:arcTo wR="8560" hR="21600" stAng="10800000" swAng="-5400000"/>
                <a:lnTo>
                  <a:pt x="10881" y="21600"/>
                </a:lnTo>
                <a:arcTo wR="8560" hR="21600" stAng="5400000" swAng="186238"/>
                <a:lnTo>
                  <a:pt x="9720" y="21401"/>
                </a:lnTo>
                <a:arcTo wR="8560" hR="21600" stAng="5586238" swAng="521376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rot="17524800">
            <a:off x="3819960" y="3983040"/>
            <a:ext cx="1331640" cy="290160"/>
          </a:xfrm>
          <a:custGeom>
            <a:avLst/>
            <a:gdLst>
              <a:gd name="textAreaLeft" fmla="*/ 263880 w 1331640"/>
              <a:gd name="textAreaRight" fmla="*/ 934560 w 1331640"/>
              <a:gd name="textAreaTop" fmla="*/ 38880 h 290160"/>
              <a:gd name="textAreaBottom" fmla="*/ 251280 h 29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60" hR="21600" stAng="10800000" swAng="-5400000"/>
                <a:lnTo>
                  <a:pt x="10881" y="21600"/>
                </a:lnTo>
                <a:arcTo wR="8560" hR="21600" stAng="5400000" swAng="-2895647"/>
                <a:lnTo>
                  <a:pt x="21110" y="7200"/>
                </a:lnTo>
                <a:lnTo>
                  <a:pt x="18280" y="0"/>
                </a:lnTo>
                <a:lnTo>
                  <a:pt x="14469" y="7200"/>
                </a:lnTo>
                <a:lnTo>
                  <a:pt x="16629" y="7200"/>
                </a:lnTo>
                <a:arcTo wR="8560" hR="21600" stAng="2504353" swAng="2709408"/>
                <a:lnTo>
                  <a:pt x="9720" y="21401"/>
                </a:lnTo>
                <a:arcTo wR="8560" hR="21600" stAng="5586238" swAng="5213762"/>
                <a:close/>
              </a:path>
              <a:path fill="darkenLess" w="21600" h="21600">
                <a:moveTo>
                  <a:pt x="0" y="0"/>
                </a:moveTo>
                <a:arcTo wR="8560" hR="21600" stAng="10800000" swAng="-5400000"/>
                <a:lnTo>
                  <a:pt x="10881" y="21600"/>
                </a:lnTo>
                <a:arcTo wR="8560" hR="21600" stAng="5400000" swAng="186238"/>
                <a:lnTo>
                  <a:pt x="9720" y="21401"/>
                </a:lnTo>
                <a:arcTo wR="8560" hR="21600" stAng="5586238" swAng="521376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7355000">
            <a:off x="4617000" y="1816560"/>
            <a:ext cx="1222560" cy="297000"/>
          </a:xfrm>
          <a:custGeom>
            <a:avLst/>
            <a:gdLst>
              <a:gd name="textAreaLeft" fmla="*/ 248040 w 1222560"/>
              <a:gd name="textAreaRight" fmla="*/ 835560 w 1222560"/>
              <a:gd name="textAreaTop" fmla="*/ 39600 h 297000"/>
              <a:gd name="textAreaBottom" fmla="*/ 257400 h 297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70" hR="21600" stAng="10800000" swAng="5400000"/>
                <a:lnTo>
                  <a:pt x="10375" y="0"/>
                </a:lnTo>
                <a:arcTo wR="8770" hR="21600" stAng="-5400000" swAng="2651211"/>
                <a:lnTo>
                  <a:pt x="20922" y="13275"/>
                </a:lnTo>
                <a:lnTo>
                  <a:pt x="18342" y="21600"/>
                </a:lnTo>
                <a:lnTo>
                  <a:pt x="14405" y="13275"/>
                </a:lnTo>
                <a:lnTo>
                  <a:pt x="16861" y="13275"/>
                </a:lnTo>
                <a:arcTo wR="8770" hR="21600" stAng="-2748789" swAng="-2523010"/>
                <a:lnTo>
                  <a:pt x="9572" y="91"/>
                </a:lnTo>
                <a:arcTo wR="8770" hR="21600" stAng="-5528201" swAng="-5271799"/>
                <a:close/>
              </a:path>
              <a:path fill="darkenLess" w="21600" h="21600">
                <a:moveTo>
                  <a:pt x="0" y="21600"/>
                </a:moveTo>
                <a:arcTo wR="8770" hR="21600" stAng="10800000" swAng="5400000"/>
                <a:lnTo>
                  <a:pt x="8770" y="0"/>
                </a:lnTo>
                <a:arcTo wR="8770" hR="21600" stAng="-5400000" swAng="128201"/>
                <a:lnTo>
                  <a:pt x="9572" y="91"/>
                </a:lnTo>
                <a:arcTo wR="8770" hR="21600" stAng="-5528201" swAng="-527179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95800" y="41990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Narrow"/>
              </a:rPr>
              <a:t>Смещения свя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67360" y="4913280"/>
            <a:ext cx="194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Narrow"/>
              </a:rPr>
              <a:t>Предварительное на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5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3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2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2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2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7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4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6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4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5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6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6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7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8" dur="8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3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4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5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37960" y="264960"/>
            <a:ext cx="8642520" cy="4107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Book Antiqua"/>
              </a:rPr>
              <a:t>Основные понятия и опреде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17440" y="853920"/>
            <a:ext cx="8713800" cy="17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Регулирова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напряжённо-деформированного состояния сооружения 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онструкци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целенаправленное воздействи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осредством различных технических приёмов на те или иные характеристики механического поведения или состояния объекта (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оружения, конструкции или их элементо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с целью получени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ыгодны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о некотор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ранее принятому критерию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значений этих характеристи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040" y="2651040"/>
            <a:ext cx="871380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imes New Roman"/>
              </a:rPr>
              <a:t>Регулируемые параметр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лежащие улучшению характеристики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17440" y="3363840"/>
            <a:ext cx="871380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imes New Roman"/>
              </a:rPr>
              <a:t>Регулирующие параметры (</a:t>
            </a:r>
            <a:r>
              <a:rPr b="1" lang="en-US" sz="1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990033"/>
                </a:solidFill>
                <a:latin typeface="Times New Roman"/>
              </a:rPr>
              <a:t>регуляторы</a:t>
            </a:r>
            <a:r>
              <a:rPr b="1" i="1" lang="en-US" sz="1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0033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личины, за счёт изменения которых осуществляется воздействие на НДС объекта и его характеристики (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том числе на регулируемые параметры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040" y="4341960"/>
            <a:ext cx="871380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imes New Roman"/>
              </a:rPr>
              <a:t>Критерий регулировани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щее исходное требование к результату регулир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раженное в качественной форме, без количественной дет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30040" y="5324400"/>
            <a:ext cx="871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imes New Roman"/>
              </a:rPr>
              <a:t>Условия регулирования по принятому критери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висимости (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равнения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выражающие цель регулиров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торым должны удовлетворять значения регулируемых парамет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результате решения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6" dur="indefinite" restart="never" nodeType="tmRoot">
          <p:childTnLst>
            <p:seq>
              <p:cTn id="2367" dur="indefinite" nodeType="mainSeq">
                <p:childTnLst>
                  <p:par>
                    <p:cTn id="2368" fill="hold">
                      <p:stCondLst>
                        <p:cond delay="0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9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0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1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6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7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8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3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4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5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0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1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2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7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8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9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920" y="264960"/>
            <a:ext cx="8642160" cy="6541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Book Antiqua"/>
              </a:rPr>
              <a:t>Классификация задач регулирования НДС конструкц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50920" y="679320"/>
            <a:ext cx="86421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 Antiqua"/>
              </a:rPr>
              <a:t>П  р  и  з  н  а  к  и     к  л  а  с  с  и  ф  и  к  а  ц  и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11040" y="1000080"/>
            <a:ext cx="3241800" cy="1604160"/>
          </a:xfrm>
          <a:prstGeom prst="rect">
            <a:avLst/>
          </a:prstGeom>
          <a:solidFill>
            <a:srgbClr val="c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По используемому</a:t>
            </a:r>
            <a:r>
              <a:rPr b="1" lang="en-US" sz="2000" spc="-1" strike="noStrike">
                <a:solidFill>
                  <a:srgbClr val="33339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Book Antiqua"/>
              </a:rPr>
              <a:t>критерию регу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8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 Antiqua"/>
              </a:rPr>
              <a:t>(что именно регулируется – что приним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8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 Antiqua"/>
              </a:rPr>
              <a:t>за  </a:t>
            </a:r>
            <a:r>
              <a:rPr b="1" i="1" lang="en-US" sz="1700" spc="-1" strike="noStrike">
                <a:solidFill>
                  <a:srgbClr val="333399"/>
                </a:solidFill>
                <a:latin typeface="Book Antiqua"/>
              </a:rPr>
              <a:t>регулируемые параметры</a:t>
            </a:r>
            <a:r>
              <a:rPr b="1" lang="en-US" sz="1700" spc="-1" strike="noStrike">
                <a:solidFill>
                  <a:srgbClr val="333399"/>
                </a:solidFill>
                <a:latin typeface="Book Antiqu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648240" y="990720"/>
            <a:ext cx="3024000" cy="1176480"/>
          </a:xfrm>
          <a:prstGeom prst="rect">
            <a:avLst/>
          </a:prstGeom>
          <a:solidFill>
            <a:srgbClr val="c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По выбору</a:t>
            </a:r>
            <a:r>
              <a:rPr b="1" lang="en-US" sz="2000" spc="-1" strike="noStrike">
                <a:solidFill>
                  <a:srgbClr val="33339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Book Antiqua"/>
              </a:rPr>
              <a:t>регуля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8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 Antiqua"/>
              </a:rPr>
              <a:t>(с помощью чего осуществ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8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Book Antiqua"/>
              </a:rPr>
              <a:t>регулирова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-1690920" y="409932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Р   е   г   у   л   и   р   о   в   а   н   и  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06400" y="2192400"/>
            <a:ext cx="2521080" cy="7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силовых фак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(опорных реакц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нутренних усил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напряже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82640" y="2914560"/>
            <a:ext cx="1942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и дефор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06400" y="3376440"/>
            <a:ext cx="27370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характери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динамического НДС констру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(частот собственных колебаний, динам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коэффициентов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06400" y="4540320"/>
            <a:ext cx="252108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характери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устойчивости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(критического параметра нагрузки, коэффициентов приведения длины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06400" y="5602320"/>
            <a:ext cx="273708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других характери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НДС констру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06400" y="6084720"/>
            <a:ext cx="216072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надё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и долгов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6200000">
            <a:off x="442800" y="2473200"/>
            <a:ext cx="57600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572400" y="3064320"/>
            <a:ext cx="32364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573840" y="6267600"/>
            <a:ext cx="323640" cy="1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rot="16200000">
            <a:off x="573840" y="5798160"/>
            <a:ext cx="324000" cy="1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266760" y="3877920"/>
            <a:ext cx="936360" cy="142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266400" y="5008320"/>
            <a:ext cx="936720" cy="142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1641600" y="4101480"/>
            <a:ext cx="43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Р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Book Antiqua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е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Book Antiqua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г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Book Antiqua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у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Book Antiqua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л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Book Antiqua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и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Book Antiqua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р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Book Antiqua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о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Book Antiqua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в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Book Antiqua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а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Book Antiqua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н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Book Antiqua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и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Book Antiqua"/>
              </a:rPr>
              <a:t>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Book Antiqua"/>
              </a:rPr>
              <a:t>е   по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2206800"/>
            <a:ext cx="266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изменения расчё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схемы констр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16200000">
            <a:off x="3796560" y="2365920"/>
            <a:ext cx="32364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84720" y="2611440"/>
            <a:ext cx="2519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арьирование положения связей </a:t>
            </a: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(опор, шарнир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284720" y="2959200"/>
            <a:ext cx="2592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выбор выгодного очертания осей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84720" y="3289320"/>
            <a:ext cx="295128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изменение глобальных геометрических парамет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(длин пролётов, высот этажей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84720" y="3781440"/>
            <a:ext cx="25923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трансформация расчётной схемы  в  процессе  сбор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и монта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995640" y="4268880"/>
            <a:ext cx="2664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изменения нагруз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16200000">
            <a:off x="3796560" y="4323240"/>
            <a:ext cx="32364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284720" y="4481640"/>
            <a:ext cx="259236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схема передачи нагруз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на соору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284720" y="4829040"/>
            <a:ext cx="259236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 Antiqua"/>
              </a:rPr>
              <a:t>введениа дополнительных нагрузок («пригружения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6200000">
            <a:off x="3796200" y="5360040"/>
            <a:ext cx="32400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6200000">
            <a:off x="3796560" y="5826600"/>
            <a:ext cx="32364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3796200" y="6280920"/>
            <a:ext cx="32400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211640" y="2637000"/>
            <a:ext cx="144360" cy="14436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0"/>
                </a:moveTo>
                <a:lnTo>
                  <a:pt x="0" y="91"/>
                </a:lnTo>
                <a:lnTo>
                  <a:pt x="91" y="9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211640" y="2781360"/>
            <a:ext cx="144360" cy="36036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0"/>
                </a:moveTo>
                <a:lnTo>
                  <a:pt x="0" y="91"/>
                </a:lnTo>
                <a:lnTo>
                  <a:pt x="91" y="9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3139920"/>
            <a:ext cx="144360" cy="36036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0"/>
                </a:moveTo>
                <a:lnTo>
                  <a:pt x="0" y="91"/>
                </a:lnTo>
                <a:lnTo>
                  <a:pt x="91" y="9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11640" y="3500280"/>
            <a:ext cx="144360" cy="50508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0"/>
                </a:moveTo>
                <a:lnTo>
                  <a:pt x="0" y="91"/>
                </a:lnTo>
                <a:lnTo>
                  <a:pt x="91" y="9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211640" y="4508640"/>
            <a:ext cx="144360" cy="14436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0"/>
                </a:moveTo>
                <a:lnTo>
                  <a:pt x="0" y="91"/>
                </a:lnTo>
                <a:lnTo>
                  <a:pt x="91" y="9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211640" y="4653000"/>
            <a:ext cx="144360" cy="36036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0"/>
                </a:moveTo>
                <a:lnTo>
                  <a:pt x="0" y="91"/>
                </a:lnTo>
                <a:lnTo>
                  <a:pt x="91" y="9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757920" y="981000"/>
            <a:ext cx="2062080" cy="1195200"/>
          </a:xfrm>
          <a:prstGeom prst="rect">
            <a:avLst/>
          </a:prstGeom>
          <a:solidFill>
            <a:srgbClr val="c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Book Antiqua"/>
              </a:rPr>
              <a:t>По типу</a:t>
            </a:r>
            <a:r>
              <a:rPr b="1" lang="en-US" sz="2000" spc="-1" strike="noStrike">
                <a:solidFill>
                  <a:srgbClr val="33339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3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990033"/>
                </a:solidFill>
                <a:latin typeface="Book Antiqua"/>
              </a:rPr>
              <a:t>расчётных зависимостей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3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990033"/>
                </a:solidFill>
                <a:latin typeface="Book Antiqua"/>
              </a:rPr>
              <a:t>и  уравнений регулиров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0800000">
            <a:off x="7310160" y="2203200"/>
            <a:ext cx="32364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0800000">
            <a:off x="8013600" y="2198520"/>
            <a:ext cx="324000" cy="1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6200000">
            <a:off x="6179400" y="3367440"/>
            <a:ext cx="28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л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и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е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й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ы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е  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16200000">
            <a:off x="6877080" y="3358800"/>
            <a:ext cx="282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нелинейные 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64480" y="5021280"/>
            <a:ext cx="2016000" cy="7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по разрешающ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уравнен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рег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41720" y="5216400"/>
            <a:ext cx="2978280" cy="1368720"/>
          </a:xfrm>
          <a:prstGeom prst="rightArrowCallout">
            <a:avLst>
              <a:gd name="adj1" fmla="val 13918"/>
              <a:gd name="adj2" fmla="val 18444"/>
              <a:gd name="adj3" fmla="val 9157"/>
              <a:gd name="adj4" fmla="val 93537"/>
            </a:avLst>
          </a:prstGeom>
          <a:solidFill>
            <a:srgbClr val="ffd4d1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95640" y="5213520"/>
            <a:ext cx="2808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изменения жёстк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995640" y="5680080"/>
            <a:ext cx="2592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смещения свя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(внешних и внутренни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95640" y="6121440"/>
            <a:ext cx="29527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создания  предвари-тельного напря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83280" y="5645160"/>
            <a:ext cx="184644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только дл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статичес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неопределим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сис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(</a:t>
            </a:r>
            <a:r>
              <a:rPr b="1" lang="en-US" sz="8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специфическ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регуляторы</a:t>
            </a:r>
            <a:r>
              <a:rPr b="1" lang="en-US" sz="9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n-US" sz="1500" spc="-1" strike="noStrike">
                <a:solidFill>
                  <a:srgbClr val="333399"/>
                </a:solidFill>
                <a:latin typeface="Arial Narrow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5400000">
            <a:off x="7786080" y="4538520"/>
            <a:ext cx="90720" cy="934920"/>
          </a:xfrm>
          <a:custGeom>
            <a:avLst/>
            <a:gdLst>
              <a:gd name="textAreaLeft" fmla="*/ 0 w 90720"/>
              <a:gd name="textAreaRight" fmla="*/ 32760 w 907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0" dur="indefinite" restart="never" nodeType="tmRoot">
          <p:childTnLst>
            <p:seq>
              <p:cTn id="2411" dur="indefinite" nodeType="mainSeq">
                <p:childTnLst>
                  <p:par>
                    <p:cTn id="2412" fill="hold">
                      <p:stCondLst>
                        <p:cond delay="0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7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8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9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560"/>
                            </p:stCondLst>
                            <p:childTnLst>
                              <p:par>
                                <p:cTn id="24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5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560"/>
                            </p:stCondLst>
                            <p:childTnLst>
                              <p:par>
                                <p:cTn id="24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1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5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9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1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3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4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5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1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8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0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1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50920" y="264960"/>
            <a:ext cx="8642160" cy="605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Book Antiqua"/>
              </a:rPr>
              <a:t>Общая схема решения задач регулирования НДС конструкц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92360" y="7048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Обо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50920" y="914400"/>
            <a:ext cx="849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регулируем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араметры;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х 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9280" y="1311120"/>
            <a:ext cx="87138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V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регулирующ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араметр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варьируемые парамет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регулято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х 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1916280"/>
            <a:ext cx="842472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равнения, выражающие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требования к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регулируемым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параметрам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 принятому критерию (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словия регулирования</a:t>
            </a:r>
            <a:r>
              <a:rPr b="1" lang="ru-RU" sz="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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P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,   j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число условий (уравнений) регул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вестные (задаваемые) конста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50920" y="3357720"/>
            <a:ext cx="871380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висимости, выражающие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регулируемые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параметры через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егуляторы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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V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,   i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V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функция влияния регуляторов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нных воздействий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нагрузок и др.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егулируемый парамет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характеристика влияния 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заданных воздейств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22640" y="5022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87760" y="51372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195640" y="5465880"/>
            <a:ext cx="5184720" cy="503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7120" y="5557680"/>
            <a:ext cx="84250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V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,   j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равнения регулирования относительно искомых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егуляторов 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3688200" y="5063040"/>
            <a:ext cx="326880" cy="576360"/>
          </a:xfrm>
          <a:custGeom>
            <a:avLst/>
            <a:gdLst>
              <a:gd name="textAreaLeft" fmla="*/ 0 w 326880"/>
              <a:gd name="textAreaRight" fmla="*/ 327240 w 326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423" stAng="10800000" swAng="5400000"/>
                <a:lnTo>
                  <a:pt x="12427" y="2737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421"/>
                </a:lnTo>
                <a:lnTo>
                  <a:pt x="12427" y="9421"/>
                </a:lnTo>
                <a:arcTo wR="5743" hR="2739" stAng="16200000" swAng="-5400000"/>
                <a:lnTo>
                  <a:pt x="6684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5120" y="614052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 системы уравнений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егуляторов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V</a:t>
            </a: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861080" y="630252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8" dur="indefinite" restart="never" nodeType="tmRoot">
          <p:childTnLst>
            <p:seq>
              <p:cTn id="2709" dur="indefinite" nodeType="mainSeq">
                <p:childTnLst>
                  <p:par>
                    <p:cTn id="2710" fill="hold">
                      <p:stCondLst>
                        <p:cond delay="0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7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8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9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0" fill="hold">
                            <p:stCondLst>
                              <p:cond delay="3200"/>
                            </p:stCondLst>
                            <p:childTnLst>
                              <p:par>
                                <p:cTn id="2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3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4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5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0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1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2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7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8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9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fill="hold">
                      <p:stCondLst>
                        <p:cond delay="indefinite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6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7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8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264960"/>
            <a:ext cx="8642160" cy="605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Book Antiqua"/>
              </a:rPr>
              <a:t>Общая схема решения задач регулирования НДС конструкц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492360" y="7048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Обо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24000" y="2133720"/>
            <a:ext cx="842472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равнения, выражающие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требования к </a:t>
            </a: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регулируемым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параметрам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 принятому критерию (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словия регулирования</a:t>
            </a:r>
            <a:r>
              <a:rPr b="1" lang="ru-RU" sz="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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P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,   j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0920" y="2906640"/>
            <a:ext cx="8713800" cy="7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висимости, выражающие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регулируемые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параметры через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егуляторы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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V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,   i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222640" y="3357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687760" y="34718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195640" y="3778200"/>
            <a:ext cx="5184720" cy="3794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7120" y="3746520"/>
            <a:ext cx="84250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V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,   j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равнения регулирования относительно искомых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егуляторов 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5400000">
            <a:off x="3688200" y="3398040"/>
            <a:ext cx="327240" cy="576360"/>
          </a:xfrm>
          <a:custGeom>
            <a:avLst/>
            <a:gdLst>
              <a:gd name="textAreaLeft" fmla="*/ 0 w 327240"/>
              <a:gd name="textAreaRight" fmla="*/ 327600 w 3272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423" stAng="10800000" swAng="5400000"/>
                <a:lnTo>
                  <a:pt x="12427" y="2737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421"/>
                </a:lnTo>
                <a:lnTo>
                  <a:pt x="12427" y="9421"/>
                </a:lnTo>
                <a:arcTo wR="5743" hR="2739" stAng="16200000" swAng="-5400000"/>
                <a:lnTo>
                  <a:pt x="6684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43280" y="180180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Сводка урав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692360" y="434016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Частный случай – линейные уравнения (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) и (</a:t>
            </a: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1187280" y="4599000"/>
                <a:ext cx="62881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 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 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 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 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Σ 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 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250920" y="5253120"/>
            <a:ext cx="259236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Book Antiqua"/>
              </a:rPr>
              <a:t>В матричной форм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39800" y="5872320"/>
            <a:ext cx="1944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трица влияния регуляторо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регулируем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раметры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5400000">
            <a:off x="5952960" y="5779800"/>
            <a:ext cx="1368360" cy="216000"/>
          </a:xfrm>
          <a:prstGeom prst="triangle">
            <a:avLst>
              <a:gd name="adj" fmla="val 33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794640" y="5510160"/>
            <a:ext cx="2025360" cy="680040"/>
          </a:xfrm>
          <a:prstGeom prst="rect">
            <a:avLst/>
          </a:prstGeom>
          <a:solidFill>
            <a:srgbClr val="ff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713640" y="5886360"/>
            <a:ext cx="208764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гд</a:t>
            </a:r>
            <a:r>
              <a:rPr b="1" lang="ru-RU" sz="1700" spc="-1" strike="noStrike">
                <a:solidFill>
                  <a:srgbClr val="000000"/>
                </a:solidFill>
                <a:latin typeface="Book Antiqua"/>
              </a:rPr>
              <a:t>е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916360" y="5157720"/>
            <a:ext cx="1726920" cy="1440000"/>
          </a:xfrm>
          <a:prstGeom prst="rect">
            <a:avLst/>
          </a:prstGeom>
          <a:solidFill>
            <a:srgbClr val="ffd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32480" y="5157720"/>
            <a:ext cx="936720" cy="1440000"/>
          </a:xfrm>
          <a:prstGeom prst="rect">
            <a:avLst/>
          </a:prstGeom>
          <a:solidFill>
            <a:srgbClr val="ffd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946240" y="5133960"/>
                <a:ext cx="349740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…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…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2521080" y="61372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477200" y="4832280"/>
            <a:ext cx="1225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начение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от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914400"/>
            <a:ext cx="849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регулируем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араметры;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х 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79280" y="1311120"/>
            <a:ext cx="87138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V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регулирующ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араметр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варьируемые парамет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регулято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х 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1" dur="indefinite" restart="never" nodeType="tmRoot">
          <p:childTnLst>
            <p:seq>
              <p:cTn id="2792" dur="indefinite" nodeType="mainSeq">
                <p:childTnLst>
                  <p:par>
                    <p:cTn id="2793" fill="hold">
                      <p:stCondLst>
                        <p:cond delay="0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8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9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0" fill="hold">
                            <p:stCondLst>
                              <p:cond delay="640"/>
                            </p:stCondLst>
                            <p:childTnLst>
                              <p:par>
                                <p:cTn id="28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fill="hold">
                            <p:stCondLst>
                              <p:cond delay="1640"/>
                            </p:stCondLst>
                            <p:childTnLst>
                              <p:par>
                                <p:cTn id="28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2" fill="hold">
                            <p:stCondLst>
                              <p:cond delay="2640"/>
                            </p:stCondLst>
                            <p:childTnLst>
                              <p:par>
                                <p:cTn id="28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8" fill="hold">
                            <p:stCondLst>
                              <p:cond delay="3640"/>
                            </p:stCondLst>
                            <p:childTnLst>
                              <p:par>
                                <p:cTn id="28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4640"/>
                            </p:stCondLst>
                            <p:childTnLst>
                              <p:par>
                                <p:cTn id="28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fill="hold">
                            <p:stCondLst>
                              <p:cond delay="5640"/>
                            </p:stCondLst>
                            <p:childTnLst>
                              <p:par>
                                <p:cTn id="28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6640"/>
                            </p:stCondLst>
                            <p:childTnLst>
                              <p:par>
                                <p:cTn id="28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1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2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8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9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0" dur="8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7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3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5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0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1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9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0920" y="264960"/>
            <a:ext cx="8642160" cy="605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Book Antiqua"/>
              </a:rPr>
              <a:t>Общая схема решения задач регулирования НДС конструкц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037200" y="1519200"/>
            <a:ext cx="295272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личество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 Narrow"/>
              </a:rPr>
              <a:t>регулируемых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 Narrow"/>
              </a:rPr>
              <a:t>параметров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044720" y="712800"/>
            <a:ext cx="705636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равнения регулирования в случае линейной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24000" y="2708280"/>
            <a:ext cx="194436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трица влияния регуляторов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регулируем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раметры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63640" y="1095480"/>
            <a:ext cx="2376720" cy="437040"/>
          </a:xfrm>
          <a:prstGeom prst="rect">
            <a:avLst/>
          </a:prstGeom>
          <a:solidFill>
            <a:srgbClr val="ff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V +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0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140360" y="1092240"/>
            <a:ext cx="410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где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A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30680" y="4108320"/>
            <a:ext cx="1512720" cy="358920"/>
          </a:xfrm>
          <a:prstGeom prst="rect">
            <a:avLst/>
          </a:prstGeom>
          <a:solidFill>
            <a:srgbClr val="ffd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627280" y="5045040"/>
            <a:ext cx="3781440" cy="684360"/>
          </a:xfrm>
          <a:prstGeom prst="rect">
            <a:avLst/>
          </a:prstGeom>
          <a:solidFill>
            <a:srgbClr val="ffd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81320" y="1652760"/>
                <a:ext cx="3743280" cy="19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t xml:space="preserve">D</m:t>
                            </m:r>
                          </m:e>
                          <m:li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 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…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6037200" y="1952640"/>
            <a:ext cx="28796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личество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990033"/>
                </a:solidFill>
                <a:latin typeface="Arial Narrow"/>
              </a:rPr>
              <a:t>регуляторов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49800" y="2225520"/>
            <a:ext cx="26640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у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оличество </a:t>
            </a:r>
            <a:r>
              <a:rPr b="1" lang="ru-RU" sz="1600" spc="-1" strike="noStrike">
                <a:solidFill>
                  <a:srgbClr val="333399"/>
                </a:solidFill>
                <a:latin typeface="Arial Narrow"/>
              </a:rPr>
              <a:t>уравн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 Narrow"/>
              </a:rPr>
              <a:t>          </a:t>
            </a:r>
            <a:r>
              <a:rPr b="1" lang="en-US" sz="16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 Narrow"/>
              </a:rPr>
              <a:t>регулирования</a:t>
            </a:r>
            <a:r>
              <a:rPr b="1" lang="ru-RU" sz="1600" spc="-1" strike="noStrike">
                <a:solidFill>
                  <a:srgbClr val="009900"/>
                </a:solidFill>
                <a:latin typeface="Arial Narrow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971720" y="1436760"/>
            <a:ext cx="0" cy="216000"/>
          </a:xfrm>
          <a:prstGeom prst="line">
            <a:avLst/>
          </a:prstGeom>
          <a:ln w="76320">
            <a:solidFill>
              <a:srgbClr val="333399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11360" y="15717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9200" y="2706840"/>
            <a:ext cx="2067120" cy="792000"/>
          </a:xfrm>
          <a:custGeom>
            <a:avLst/>
            <a:gdLst>
              <a:gd name="textAreaLeft" fmla="*/ 0 w 2067120"/>
              <a:gd name="textAreaRight" fmla="*/ 2067480 w 20671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86" y="0"/>
                </a:lnTo>
                <a:lnTo>
                  <a:pt x="21600" y="10800"/>
                </a:lnTo>
                <a:lnTo>
                  <a:pt x="17886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011280" y="2793960"/>
            <a:ext cx="2592360" cy="57636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29" y="0"/>
                </a:lnTo>
                <a:lnTo>
                  <a:pt x="21600" y="10800"/>
                </a:lnTo>
                <a:lnTo>
                  <a:pt x="19829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156360" y="2801880"/>
            <a:ext cx="2519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ктор значений регули-руемых параметров  от заданных  воз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93560" y="3840120"/>
            <a:ext cx="8136000" cy="6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шение СУ (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– единственное, есл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вадратна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трица, т.е.  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990033"/>
                </a:solidFill>
                <a:latin typeface="Times New Roman"/>
              </a:rPr>
              <a:t>y 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=</a:t>
            </a: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990033"/>
                </a:solidFill>
                <a:latin typeface="Times New Roman"/>
              </a:rPr>
              <a:t>V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гд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= 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услов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783400" y="4100400"/>
                <a:ext cx="13348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1403280" y="4632480"/>
            <a:ext cx="6264360" cy="398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Усилия в системе в результате регулир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771640" y="4956120"/>
                <a:ext cx="36007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1979640" y="5734080"/>
            <a:ext cx="547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илия от найденных регулято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413080" y="6068880"/>
            <a:ext cx="468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илия от заданных воз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2" dur="indefinite" restart="never" nodeType="tmRoot">
          <p:childTnLst>
            <p:seq>
              <p:cTn id="2913" dur="indefinite" nodeType="mainSeq">
                <p:childTnLst>
                  <p:par>
                    <p:cTn id="2914" fill="hold">
                      <p:stCondLst>
                        <p:cond delay="0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3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6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2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5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0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5" dur="3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6" dur="3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0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1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2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3" fill="hold">
                            <p:stCondLst>
                              <p:cond delay="3440"/>
                            </p:stCondLst>
                            <p:childTnLst>
                              <p:par>
                                <p:cTn id="30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9" fill="hold">
                      <p:stCondLst>
                        <p:cond delay="indefinite"/>
                      </p:stCondLst>
                      <p:childTnLst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3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4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5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6" fill="hold">
                            <p:stCondLst>
                              <p:cond delay="1600"/>
                            </p:stCondLst>
                            <p:childTnLst>
                              <p:par>
                                <p:cTn id="30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2" fill="hold">
                            <p:stCondLst>
                              <p:cond delay="2600"/>
                            </p:stCondLst>
                            <p:childTnLst>
                              <p:par>
                                <p:cTn id="30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8" fill="hold">
                            <p:stCondLst>
                              <p:cond delay="3600"/>
                            </p:stCondLst>
                            <p:childTnLst>
                              <p:par>
                                <p:cTn id="30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1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2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fill="hold">
                            <p:stCondLst>
                              <p:cond delay="5600"/>
                            </p:stCondLst>
                            <p:childTnLst>
                              <p:par>
                                <p:cTn id="30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9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6:55:03Z</dcterms:created>
  <dc:creator>User</dc:creator>
  <dc:description/>
  <dc:language>en-US</dc:language>
  <cp:lastModifiedBy>user</cp:lastModifiedBy>
  <dcterms:modified xsi:type="dcterms:W3CDTF">2011-02-10T14:16:06Z</dcterms:modified>
  <cp:revision>79</cp:revision>
  <dc:subject/>
  <dc:title>Слайд 1</dc:title>
</cp:coreProperties>
</file>